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0.wmf" ContentType="image/x-wmf"/>
  <Override PartName="/ppt/media/image21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773EE9F-B461-4AEC-AD2B-203F307E31E8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6D493F3-E427-47E8-BA99-E3A3B67DC443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4A63170-94AD-4943-861B-A0500604C98C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5A03454-4C45-45BE-BCAB-511928E02FB4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079640" y="671400"/>
            <a:ext cx="4775040" cy="358164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of the reasons that OO won was toll support – the tools shoed the structure of th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D47D2AA-9612-4AE4-A9E9-6944E8D0CBAE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FE8B3C1-F8EA-4278-B6E3-788B69591EA2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B198553-9F95-4FBF-B4BB-E6DA22C1F85F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8D03B73-99E0-4A87-BB1E-B5069D914BA5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36810" b="10607"/>
          <a:stretch/>
        </p:blipFill>
        <p:spPr>
          <a:xfrm>
            <a:off x="7658280" y="6291360"/>
            <a:ext cx="1395360" cy="5284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304560" y="6552720"/>
            <a:ext cx="6629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9d9dbd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9d9dbd"/>
                </a:solidFill>
                <a:latin typeface="Arial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182880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velopment Tool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0" y="3352680"/>
            <a:ext cx="91440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k Kerst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atmik@acm.or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iversity of British Columbi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ctober 28, 2003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679920" y="5486400"/>
            <a:ext cx="175248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008000" y="4132440"/>
            <a:ext cx="7755120" cy="19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85000"/>
              </a:lnSpc>
              <a:spcBef>
                <a:spcPts val="862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&amp; constructo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method &amp; constructor ca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field get &amp; s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exception handler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static &amp; dynamic initializ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198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c9a9c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762120" y="2743200"/>
            <a:ext cx="220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ointcuts: naming 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914400" y="129528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execution of th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5987520" y="3489480"/>
            <a:ext cx="564840" cy="398880"/>
            <a:chOff x="5987520" y="3489480"/>
            <a:chExt cx="564840" cy="398880"/>
          </a:xfrm>
        </p:grpSpPr>
        <p:sp>
          <p:nvSpPr>
            <p:cNvPr id="217" name=""/>
            <p:cNvSpPr/>
            <p:nvPr/>
          </p:nvSpPr>
          <p:spPr>
            <a:xfrm flipH="1">
              <a:off x="59875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1444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3125880" y="4424040"/>
            <a:ext cx="4610880" cy="786600"/>
            <a:chOff x="3125880" y="4424040"/>
            <a:chExt cx="4610880" cy="786600"/>
          </a:xfrm>
        </p:grpSpPr>
        <p:sp>
          <p:nvSpPr>
            <p:cNvPr id="220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125880" y="478152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223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3125880" y="2963880"/>
            <a:ext cx="4610880" cy="851040"/>
            <a:chOff x="3125880" y="2963880"/>
            <a:chExt cx="4610880" cy="851040"/>
          </a:xfrm>
        </p:grpSpPr>
        <p:sp>
          <p:nvSpPr>
            <p:cNvPr id="226" name=""/>
            <p:cNvSpPr/>
            <p:nvPr/>
          </p:nvSpPr>
          <p:spPr>
            <a:xfrm>
              <a:off x="3125880" y="296388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533520" y="2138400"/>
            <a:ext cx="6248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vice: action under join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232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5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500"/>
                            </p:stCondLst>
                            <p:childTnLst>
                              <p:par>
                                <p:cTn id="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3500"/>
                            </p:stCondLst>
                            <p:childTnLst>
                              <p:par>
                                <p:cTn id="1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4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0"/>
                            </p:stCondLst>
                            <p:childTnLst>
                              <p:par>
                                <p:cTn id="1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Histor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u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1773000" y="2438280"/>
            <a:ext cx="1811160" cy="7621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600200" y="1523880"/>
            <a:ext cx="464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modularize concern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mparis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 locus of “history updating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ear “history updating” modu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28564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getting started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42880" y="1779120"/>
            <a:ext cx="1800" cy="379260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70760" y="17161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benef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852480" y="2209680"/>
            <a:ext cx="7236000" cy="3326040"/>
            <a:chOff x="852480" y="2209680"/>
            <a:chExt cx="7236000" cy="3326040"/>
          </a:xfrm>
        </p:grpSpPr>
        <p:sp>
          <p:nvSpPr>
            <p:cNvPr id="261" name=""/>
            <p:cNvSpPr/>
            <p:nvPr/>
          </p:nvSpPr>
          <p:spPr>
            <a:xfrm>
              <a:off x="852480" y="2209680"/>
              <a:ext cx="7236000" cy="3028320"/>
            </a:xfrm>
            <a:custGeom>
              <a:avLst/>
              <a:gdLst/>
              <a:ahLst/>
              <a:rect l="l" t="t" r="r" b="b"/>
              <a:pathLst>
                <a:path w="4080" h="2520">
                  <a:moveTo>
                    <a:pt x="0" y="2520"/>
                  </a:moveTo>
                  <a:cubicBezTo>
                    <a:pt x="160" y="2508"/>
                    <a:pt x="320" y="2496"/>
                    <a:pt x="480" y="2472"/>
                  </a:cubicBezTo>
                  <a:cubicBezTo>
                    <a:pt x="640" y="2448"/>
                    <a:pt x="776" y="2432"/>
                    <a:pt x="960" y="2376"/>
                  </a:cubicBezTo>
                  <a:cubicBezTo>
                    <a:pt x="1144" y="2320"/>
                    <a:pt x="1376" y="2240"/>
                    <a:pt x="1584" y="2136"/>
                  </a:cubicBezTo>
                  <a:cubicBezTo>
                    <a:pt x="1792" y="2032"/>
                    <a:pt x="2024" y="1872"/>
                    <a:pt x="2208" y="1752"/>
                  </a:cubicBezTo>
                  <a:cubicBezTo>
                    <a:pt x="2392" y="1632"/>
                    <a:pt x="2496" y="1584"/>
                    <a:pt x="2688" y="1416"/>
                  </a:cubicBezTo>
                  <a:cubicBezTo>
                    <a:pt x="2880" y="1248"/>
                    <a:pt x="3152" y="960"/>
                    <a:pt x="3360" y="744"/>
                  </a:cubicBezTo>
                  <a:cubicBezTo>
                    <a:pt x="3568" y="528"/>
                    <a:pt x="3816" y="240"/>
                    <a:pt x="3936" y="120"/>
                  </a:cubicBezTo>
                  <a:cubicBezTo>
                    <a:pt x="4056" y="0"/>
                    <a:pt x="4056" y="40"/>
                    <a:pt x="4080" y="24"/>
                  </a:cubicBezTo>
                </a:path>
              </a:pathLst>
            </a:custGeom>
            <a:noFill/>
            <a:ln w="38160">
              <a:solidFill>
                <a:srgbClr val="666699"/>
              </a:solidFill>
              <a:round/>
              <a:tailEnd len="med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>
              <a:off x="852480" y="5238000"/>
              <a:ext cx="1440" cy="2977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266920" y="5123520"/>
              <a:ext cx="1440" cy="41220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679920" y="4774680"/>
              <a:ext cx="1440" cy="7606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5176440" y="4133520"/>
              <a:ext cx="3240" cy="140184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6590880" y="3261240"/>
              <a:ext cx="1800" cy="22741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005680" y="2278080"/>
              <a:ext cx="1800" cy="32572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2666880" y="6172200"/>
            <a:ext cx="396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urce: IBM, New Aspects of 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209680" y="3505320"/>
            <a:ext cx="16639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011480" y="2647800"/>
            <a:ext cx="17798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main asp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831000" y="1139760"/>
            <a:ext cx="1855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yond 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OP redefin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ervices,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iddle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57200" y="56386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velopment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657600" y="56386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248520" y="56386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O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705720" y="4572000"/>
            <a:ext cx="18288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time &amp; </a:t>
            </a:r>
            <a:br>
              <a:rPr sz="2400"/>
            </a:b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533520" y="5536800"/>
            <a:ext cx="7970760" cy="2556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307120" y="1143000"/>
            <a:ext cx="17794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usable libra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pects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classes for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developm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infrastruc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business log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80880" y="4791240"/>
            <a:ext cx="8382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gging in Catalin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120" y="3429000"/>
            <a:ext cx="85345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velopment time aspects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crosscutting structur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crosscut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247560" y="1289160"/>
            <a:ext cx="544212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71400" y="563400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Histor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750960" y="1523880"/>
            <a:ext cx="4583160" cy="4952880"/>
            <a:chOff x="750960" y="1523880"/>
            <a:chExt cx="4583160" cy="4952880"/>
          </a:xfrm>
        </p:grpSpPr>
        <p:sp>
          <p:nvSpPr>
            <p:cNvPr id="303" name=""/>
            <p:cNvSpPr/>
            <p:nvPr/>
          </p:nvSpPr>
          <p:spPr>
            <a:xfrm>
              <a:off x="762120" y="152388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258912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222720" y="230652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2579760" y="494496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633760" y="454788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08" name=""/>
            <p:cNvCxnSpPr/>
            <p:nvPr/>
          </p:nvCxnSpPr>
          <p:spPr>
            <a:xfrm flipV="1">
              <a:off x="1665000" y="410004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09" name=""/>
            <p:cNvCxnSpPr>
              <a:stCxn id="310" idx="0"/>
            </p:cNvCxnSpPr>
            <p:nvPr/>
          </p:nvCxnSpPr>
          <p:spPr>
            <a:xfrm flipV="1">
              <a:off x="4408200" y="410004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1" name=""/>
            <p:cNvCxnSpPr/>
            <p:nvPr/>
          </p:nvCxnSpPr>
          <p:spPr>
            <a:xfrm>
              <a:off x="1665360" y="410004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2" name=""/>
            <p:cNvCxnSpPr/>
            <p:nvPr/>
          </p:nvCxnSpPr>
          <p:spPr>
            <a:xfrm flipV="1">
              <a:off x="4408200" y="364572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3" name=""/>
            <p:cNvGrpSpPr/>
            <p:nvPr/>
          </p:nvGrpSpPr>
          <p:grpSpPr>
            <a:xfrm>
              <a:off x="750960" y="4416120"/>
              <a:ext cx="1828800" cy="2060640"/>
              <a:chOff x="750960" y="4416120"/>
              <a:chExt cx="1828800" cy="2060640"/>
            </a:xfrm>
          </p:grpSpPr>
          <p:sp>
            <p:nvSpPr>
              <p:cNvPr id="314" name=""/>
              <p:cNvSpPr/>
              <p:nvPr/>
            </p:nvSpPr>
            <p:spPr>
              <a:xfrm>
                <a:off x="7509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7509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7509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7" name=""/>
            <p:cNvGrpSpPr/>
            <p:nvPr/>
          </p:nvGrpSpPr>
          <p:grpSpPr>
            <a:xfrm>
              <a:off x="3494160" y="4416120"/>
              <a:ext cx="1828800" cy="2060640"/>
              <a:chOff x="3494160" y="4416120"/>
              <a:chExt cx="1828800" cy="2060640"/>
            </a:xfrm>
          </p:grpSpPr>
          <p:sp>
            <p:nvSpPr>
              <p:cNvPr id="310" name=""/>
              <p:cNvSpPr/>
              <p:nvPr/>
            </p:nvSpPr>
            <p:spPr>
              <a:xfrm>
                <a:off x="34941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4941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4941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0" name=""/>
            <p:cNvGrpSpPr/>
            <p:nvPr/>
          </p:nvGrpSpPr>
          <p:grpSpPr>
            <a:xfrm>
              <a:off x="762120" y="2371320"/>
              <a:ext cx="1828800" cy="1363680"/>
              <a:chOff x="762120" y="2371320"/>
              <a:chExt cx="1828800" cy="1363680"/>
            </a:xfrm>
          </p:grpSpPr>
          <p:sp>
            <p:nvSpPr>
              <p:cNvPr id="321" name=""/>
              <p:cNvSpPr/>
              <p:nvPr/>
            </p:nvSpPr>
            <p:spPr>
              <a:xfrm>
                <a:off x="7621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62120" y="281772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762120" y="28144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3505320" y="2371320"/>
              <a:ext cx="1828800" cy="1285920"/>
              <a:chOff x="3505320" y="2371320"/>
              <a:chExt cx="1828800" cy="1285920"/>
            </a:xfrm>
          </p:grpSpPr>
          <p:sp>
            <p:nvSpPr>
              <p:cNvPr id="325" name=""/>
              <p:cNvSpPr/>
              <p:nvPr/>
            </p:nvSpPr>
            <p:spPr>
              <a:xfrm>
                <a:off x="35053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343400" y="350496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3505320" y="281592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3505320" y="28112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howing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ol support helped OO w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 invocation is im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fficult to infer structure from source alon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atibility with Eclip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t hierarchic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lob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80880" y="1214280"/>
            <a:ext cx="8382240" cy="50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962520" y="426708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noFill/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457200" y="1752480"/>
          <a:ext cx="4189320" cy="426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52480"/>
                    <a:ext cx="418932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6" name=""/>
          <p:cNvGraphicFramePr/>
          <p:nvPr/>
        </p:nvGraphicFramePr>
        <p:xfrm>
          <a:off x="3722760" y="2198520"/>
          <a:ext cx="5105160" cy="4267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22760" y="2198520"/>
                    <a:ext cx="510516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8" name=""/>
          <p:cNvSpPr/>
          <p:nvPr/>
        </p:nvSpPr>
        <p:spPr>
          <a:xfrm>
            <a:off x="843120" y="4348080"/>
            <a:ext cx="1560240" cy="1281240"/>
          </a:xfrm>
          <a:custGeom>
            <a:avLst/>
            <a:gdLst/>
            <a:ahLst/>
            <a:rect l="l" t="t" r="r" b="b"/>
            <a:pathLst>
              <a:path w="4334" h="3561">
                <a:moveTo>
                  <a:pt x="5354" y="12300"/>
                </a:moveTo>
                <a:cubicBezTo>
                  <a:pt x="5241" y="12195"/>
                  <a:pt x="5184" y="12132"/>
                  <a:pt x="5015" y="12098"/>
                </a:cubicBezTo>
                <a:cubicBezTo>
                  <a:pt x="4487" y="11991"/>
                  <a:pt x="3919" y="12235"/>
                  <a:pt x="3508" y="12547"/>
                </a:cubicBezTo>
                <a:cubicBezTo>
                  <a:pt x="2918" y="12996"/>
                  <a:pt x="2302" y="13762"/>
                  <a:pt x="2341" y="14547"/>
                </a:cubicBezTo>
                <a:cubicBezTo>
                  <a:pt x="2366" y="15049"/>
                  <a:pt x="2705" y="15447"/>
                  <a:pt x="3180" y="15586"/>
                </a:cubicBezTo>
                <a:cubicBezTo>
                  <a:pt x="3813" y="15771"/>
                  <a:pt x="4507" y="15456"/>
                  <a:pt x="5043" y="15140"/>
                </a:cubicBezTo>
                <a:cubicBezTo>
                  <a:pt x="5620" y="14800"/>
                  <a:pt x="6216" y="14341"/>
                  <a:pt x="6537" y="13740"/>
                </a:cubicBezTo>
                <a:cubicBezTo>
                  <a:pt x="6764" y="13315"/>
                  <a:pt x="6698" y="12877"/>
                  <a:pt x="6332" y="12561"/>
                </a:cubicBezTo>
                <a:cubicBezTo>
                  <a:pt x="5742" y="12053"/>
                  <a:pt x="4869" y="12111"/>
                  <a:pt x="4181" y="12352"/>
                </a:cubicBezTo>
                <a:cubicBezTo>
                  <a:pt x="3972" y="12435"/>
                  <a:pt x="3904" y="12461"/>
                  <a:pt x="3770" y="1252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828800" y="3809880"/>
            <a:ext cx="2481120" cy="565200"/>
          </a:xfrm>
          <a:custGeom>
            <a:avLst/>
            <a:gdLst/>
            <a:ahLst/>
            <a:rect l="l" t="t" r="r" b="b"/>
            <a:pathLst>
              <a:path w="6895" h="1568">
                <a:moveTo>
                  <a:pt x="5255" y="10946"/>
                </a:moveTo>
                <a:cubicBezTo>
                  <a:pt x="5296" y="10932"/>
                  <a:pt x="5354" y="10916"/>
                  <a:pt x="5403" y="10898"/>
                </a:cubicBezTo>
                <a:cubicBezTo>
                  <a:pt x="5864" y="10724"/>
                  <a:pt x="6388" y="10705"/>
                  <a:pt x="6874" y="10740"/>
                </a:cubicBezTo>
                <a:cubicBezTo>
                  <a:pt x="7190" y="10762"/>
                  <a:pt x="7645" y="10799"/>
                  <a:pt x="7856" y="11074"/>
                </a:cubicBezTo>
                <a:cubicBezTo>
                  <a:pt x="7978" y="11233"/>
                  <a:pt x="7841" y="11401"/>
                  <a:pt x="7770" y="11545"/>
                </a:cubicBezTo>
                <a:cubicBezTo>
                  <a:pt x="7714" y="11658"/>
                  <a:pt x="7668" y="11741"/>
                  <a:pt x="7762" y="11840"/>
                </a:cubicBezTo>
                <a:cubicBezTo>
                  <a:pt x="7873" y="11956"/>
                  <a:pt x="8210" y="11921"/>
                  <a:pt x="8347" y="11922"/>
                </a:cubicBezTo>
                <a:cubicBezTo>
                  <a:pt x="9330" y="11926"/>
                  <a:pt x="10304" y="11842"/>
                  <a:pt x="11288" y="11910"/>
                </a:cubicBezTo>
                <a:cubicBezTo>
                  <a:pt x="11475" y="11923"/>
                  <a:pt x="11707" y="11987"/>
                  <a:pt x="11892" y="11962"/>
                </a:cubicBezTo>
                <a:cubicBezTo>
                  <a:pt x="11925" y="11954"/>
                  <a:pt x="11932" y="11949"/>
                  <a:pt x="11895" y="11923"/>
                </a:cubicBezTo>
              </a:path>
              <a:path w="6895" h="1568">
                <a:moveTo>
                  <a:pt x="11588" y="11698"/>
                </a:moveTo>
                <a:cubicBezTo>
                  <a:pt x="11607" y="11763"/>
                  <a:pt x="11630" y="11772"/>
                  <a:pt x="11691" y="11805"/>
                </a:cubicBezTo>
                <a:cubicBezTo>
                  <a:pt x="11757" y="11841"/>
                  <a:pt x="11826" y="11871"/>
                  <a:pt x="11895" y="11900"/>
                </a:cubicBezTo>
                <a:cubicBezTo>
                  <a:pt x="11948" y="11922"/>
                  <a:pt x="12001" y="11941"/>
                  <a:pt x="12054" y="11962"/>
                </a:cubicBezTo>
                <a:cubicBezTo>
                  <a:pt x="12087" y="11975"/>
                  <a:pt x="12118" y="11990"/>
                  <a:pt x="12149" y="12006"/>
                </a:cubicBezTo>
                <a:cubicBezTo>
                  <a:pt x="12100" y="12038"/>
                  <a:pt x="12049" y="12059"/>
                  <a:pt x="11996" y="12084"/>
                </a:cubicBezTo>
                <a:cubicBezTo>
                  <a:pt x="11929" y="12115"/>
                  <a:pt x="11861" y="12147"/>
                  <a:pt x="11796" y="12182"/>
                </a:cubicBezTo>
                <a:cubicBezTo>
                  <a:pt x="11731" y="12216"/>
                  <a:pt x="11669" y="12249"/>
                  <a:pt x="11599" y="12273"/>
                </a:cubicBezTo>
                <a:cubicBezTo>
                  <a:pt x="11561" y="12284"/>
                  <a:pt x="11550" y="12287"/>
                  <a:pt x="11526" y="1229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1.0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ajdt 1.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relationship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staticinitialization, initializatio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get,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handler, cflow, .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r-type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warning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err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fields and metho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5029200" y="3733920"/>
          <a:ext cx="3581280" cy="161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9200" y="3733920"/>
                    <a:ext cx="3581280" cy="16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5" name=""/>
          <p:cNvGraphicFramePr/>
          <p:nvPr/>
        </p:nvGraphicFramePr>
        <p:xfrm>
          <a:off x="5880240" y="1295280"/>
          <a:ext cx="2654280" cy="1422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80240" y="1295280"/>
                    <a:ext cx="2654280" cy="14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7" name=""/>
          <p:cNvSpPr/>
          <p:nvPr/>
        </p:nvSpPr>
        <p:spPr>
          <a:xfrm>
            <a:off x="7966080" y="2197080"/>
            <a:ext cx="366840" cy="792360"/>
          </a:xfrm>
          <a:custGeom>
            <a:avLst/>
            <a:gdLst/>
            <a:ahLst/>
            <a:rect l="l" t="t" r="r" b="b"/>
            <a:pathLst>
              <a:path w="1018" h="2199">
                <a:moveTo>
                  <a:pt x="22362" y="6348"/>
                </a:moveTo>
                <a:cubicBezTo>
                  <a:pt x="22477" y="6334"/>
                  <a:pt x="22580" y="6347"/>
                  <a:pt x="22690" y="6393"/>
                </a:cubicBezTo>
                <a:cubicBezTo>
                  <a:pt x="22901" y="6480"/>
                  <a:pt x="23045" y="6639"/>
                  <a:pt x="23110" y="6857"/>
                </a:cubicBezTo>
                <a:cubicBezTo>
                  <a:pt x="23147" y="6983"/>
                  <a:pt x="23151" y="7116"/>
                  <a:pt x="23143" y="7247"/>
                </a:cubicBezTo>
                <a:cubicBezTo>
                  <a:pt x="23129" y="7469"/>
                  <a:pt x="23056" y="7691"/>
                  <a:pt x="22968" y="7894"/>
                </a:cubicBezTo>
                <a:cubicBezTo>
                  <a:pt x="22930" y="7981"/>
                  <a:pt x="22885" y="8067"/>
                  <a:pt x="22833" y="8147"/>
                </a:cubicBezTo>
                <a:cubicBezTo>
                  <a:pt x="22798" y="8202"/>
                  <a:pt x="22756" y="8253"/>
                  <a:pt x="22715" y="8302"/>
                </a:cubicBezTo>
              </a:path>
              <a:path w="1018" h="2199">
                <a:moveTo>
                  <a:pt x="22440" y="6676"/>
                </a:moveTo>
                <a:cubicBezTo>
                  <a:pt x="22424" y="6635"/>
                  <a:pt x="22398" y="6608"/>
                  <a:pt x="22368" y="6575"/>
                </a:cubicBezTo>
                <a:cubicBezTo>
                  <a:pt x="22291" y="6491"/>
                  <a:pt x="22202" y="6418"/>
                  <a:pt x="22130" y="6329"/>
                </a:cubicBezTo>
                <a:cubicBezTo>
                  <a:pt x="22174" y="6297"/>
                  <a:pt x="22216" y="6293"/>
                  <a:pt x="22271" y="6283"/>
                </a:cubicBezTo>
                <a:cubicBezTo>
                  <a:pt x="22532" y="6234"/>
                  <a:pt x="22783" y="6189"/>
                  <a:pt x="23035" y="610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102440" y="3102120"/>
            <a:ext cx="979560" cy="171360"/>
          </a:xfrm>
          <a:custGeom>
            <a:avLst/>
            <a:gdLst/>
            <a:ahLst/>
            <a:rect l="l" t="t" r="r" b="b"/>
            <a:pathLst>
              <a:path w="2722" h="477">
                <a:moveTo>
                  <a:pt x="19730" y="9080"/>
                </a:moveTo>
                <a:cubicBezTo>
                  <a:pt x="19771" y="9055"/>
                  <a:pt x="19801" y="9015"/>
                  <a:pt x="19833" y="8978"/>
                </a:cubicBezTo>
                <a:cubicBezTo>
                  <a:pt x="19906" y="8893"/>
                  <a:pt x="19978" y="8807"/>
                  <a:pt x="20056" y="8726"/>
                </a:cubicBezTo>
                <a:cubicBezTo>
                  <a:pt x="20095" y="8686"/>
                  <a:pt x="20131" y="8645"/>
                  <a:pt x="20178" y="8615"/>
                </a:cubicBezTo>
                <a:cubicBezTo>
                  <a:pt x="20183" y="8668"/>
                  <a:pt x="20158" y="8714"/>
                  <a:pt x="20139" y="8766"/>
                </a:cubicBezTo>
                <a:cubicBezTo>
                  <a:pt x="20114" y="8835"/>
                  <a:pt x="20084" y="8903"/>
                  <a:pt x="20061" y="8973"/>
                </a:cubicBezTo>
                <a:cubicBezTo>
                  <a:pt x="20052" y="9004"/>
                  <a:pt x="20050" y="9012"/>
                  <a:pt x="20044" y="9031"/>
                </a:cubicBezTo>
              </a:path>
              <a:path w="2722" h="477">
                <a:moveTo>
                  <a:pt x="19948" y="8906"/>
                </a:moveTo>
                <a:cubicBezTo>
                  <a:pt x="19998" y="8887"/>
                  <a:pt x="20050" y="8877"/>
                  <a:pt x="20101" y="8858"/>
                </a:cubicBezTo>
                <a:cubicBezTo>
                  <a:pt x="20142" y="8843"/>
                  <a:pt x="20178" y="8825"/>
                  <a:pt x="20216" y="8804"/>
                </a:cubicBezTo>
              </a:path>
              <a:path w="2722" h="477">
                <a:moveTo>
                  <a:pt x="20433" y="8670"/>
                </a:moveTo>
                <a:cubicBezTo>
                  <a:pt x="20427" y="8717"/>
                  <a:pt x="20414" y="8758"/>
                  <a:pt x="20395" y="8803"/>
                </a:cubicBezTo>
                <a:cubicBezTo>
                  <a:pt x="20375" y="8851"/>
                  <a:pt x="20356" y="8900"/>
                  <a:pt x="20335" y="8947"/>
                </a:cubicBezTo>
                <a:cubicBezTo>
                  <a:pt x="20332" y="8953"/>
                  <a:pt x="20330" y="8958"/>
                  <a:pt x="20327" y="8964"/>
                </a:cubicBezTo>
              </a:path>
              <a:path w="2722" h="477">
                <a:moveTo>
                  <a:pt x="20299" y="8692"/>
                </a:moveTo>
                <a:cubicBezTo>
                  <a:pt x="20340" y="8671"/>
                  <a:pt x="20369" y="8670"/>
                  <a:pt x="20416" y="8671"/>
                </a:cubicBezTo>
                <a:cubicBezTo>
                  <a:pt x="20460" y="8672"/>
                  <a:pt x="20515" y="8673"/>
                  <a:pt x="20547" y="8708"/>
                </a:cubicBezTo>
                <a:cubicBezTo>
                  <a:pt x="20587" y="8751"/>
                  <a:pt x="20553" y="8809"/>
                  <a:pt x="20526" y="8847"/>
                </a:cubicBezTo>
                <a:cubicBezTo>
                  <a:pt x="20489" y="8900"/>
                  <a:pt x="20435" y="8955"/>
                  <a:pt x="20381" y="8991"/>
                </a:cubicBezTo>
                <a:cubicBezTo>
                  <a:pt x="20340" y="9019"/>
                  <a:pt x="20317" y="9025"/>
                  <a:pt x="20296" y="8986"/>
                </a:cubicBezTo>
              </a:path>
              <a:path w="2722" h="477">
                <a:moveTo>
                  <a:pt x="20687" y="8750"/>
                </a:moveTo>
                <a:cubicBezTo>
                  <a:pt x="20716" y="8735"/>
                  <a:pt x="20688" y="8797"/>
                  <a:pt x="20682" y="8833"/>
                </a:cubicBezTo>
                <a:cubicBezTo>
                  <a:pt x="20674" y="8883"/>
                  <a:pt x="20661" y="8939"/>
                  <a:pt x="20665" y="8990"/>
                </a:cubicBezTo>
                <a:cubicBezTo>
                  <a:pt x="20671" y="9016"/>
                  <a:pt x="20673" y="9025"/>
                  <a:pt x="20693" y="9032"/>
                </a:cubicBezTo>
                <a:cubicBezTo>
                  <a:pt x="20738" y="8997"/>
                  <a:pt x="20775" y="8954"/>
                  <a:pt x="20815" y="8913"/>
                </a:cubicBezTo>
                <a:cubicBezTo>
                  <a:pt x="20872" y="8856"/>
                  <a:pt x="20929" y="8799"/>
                  <a:pt x="20987" y="8742"/>
                </a:cubicBezTo>
                <a:cubicBezTo>
                  <a:pt x="21010" y="8719"/>
                  <a:pt x="21033" y="8700"/>
                  <a:pt x="21059" y="8681"/>
                </a:cubicBezTo>
              </a:path>
              <a:path w="2722" h="477">
                <a:moveTo>
                  <a:pt x="21088" y="8764"/>
                </a:moveTo>
                <a:cubicBezTo>
                  <a:pt x="21115" y="8796"/>
                  <a:pt x="21107" y="8814"/>
                  <a:pt x="21088" y="8853"/>
                </a:cubicBezTo>
                <a:cubicBezTo>
                  <a:pt x="21066" y="8899"/>
                  <a:pt x="21046" y="8944"/>
                  <a:pt x="21027" y="8991"/>
                </a:cubicBezTo>
                <a:cubicBezTo>
                  <a:pt x="21017" y="9013"/>
                  <a:pt x="21015" y="9018"/>
                  <a:pt x="21011" y="9033"/>
                </a:cubicBezTo>
              </a:path>
              <a:path w="2722" h="477">
                <a:moveTo>
                  <a:pt x="21551" y="8706"/>
                </a:moveTo>
                <a:cubicBezTo>
                  <a:pt x="21520" y="8708"/>
                  <a:pt x="21488" y="8703"/>
                  <a:pt x="21457" y="8707"/>
                </a:cubicBezTo>
                <a:cubicBezTo>
                  <a:pt x="21422" y="8711"/>
                  <a:pt x="21386" y="8723"/>
                  <a:pt x="21354" y="8737"/>
                </a:cubicBezTo>
                <a:cubicBezTo>
                  <a:pt x="21307" y="8758"/>
                  <a:pt x="21299" y="8778"/>
                  <a:pt x="21340" y="8813"/>
                </a:cubicBezTo>
                <a:cubicBezTo>
                  <a:pt x="21379" y="8846"/>
                  <a:pt x="21434" y="8862"/>
                  <a:pt x="21458" y="8912"/>
                </a:cubicBezTo>
                <a:cubicBezTo>
                  <a:pt x="21477" y="8953"/>
                  <a:pt x="21453" y="8988"/>
                  <a:pt x="21422" y="9013"/>
                </a:cubicBezTo>
                <a:cubicBezTo>
                  <a:pt x="21387" y="9042"/>
                  <a:pt x="21334" y="9063"/>
                  <a:pt x="21289" y="9049"/>
                </a:cubicBezTo>
                <a:cubicBezTo>
                  <a:pt x="21261" y="9040"/>
                  <a:pt x="21267" y="9021"/>
                  <a:pt x="21269" y="9000"/>
                </a:cubicBezTo>
              </a:path>
              <a:path w="2722" h="477">
                <a:moveTo>
                  <a:pt x="21643" y="8805"/>
                </a:moveTo>
                <a:cubicBezTo>
                  <a:pt x="21658" y="8842"/>
                  <a:pt x="21646" y="8856"/>
                  <a:pt x="21628" y="8891"/>
                </a:cubicBezTo>
                <a:cubicBezTo>
                  <a:pt x="21608" y="8930"/>
                  <a:pt x="21578" y="8975"/>
                  <a:pt x="21570" y="9019"/>
                </a:cubicBezTo>
                <a:cubicBezTo>
                  <a:pt x="21561" y="9068"/>
                  <a:pt x="21600" y="9071"/>
                  <a:pt x="21636" y="9055"/>
                </a:cubicBezTo>
                <a:cubicBezTo>
                  <a:pt x="21679" y="9035"/>
                  <a:pt x="21709" y="8999"/>
                  <a:pt x="21738" y="8963"/>
                </a:cubicBezTo>
              </a:path>
              <a:path w="2722" h="477">
                <a:moveTo>
                  <a:pt x="21636" y="8881"/>
                </a:moveTo>
                <a:cubicBezTo>
                  <a:pt x="21630" y="8914"/>
                  <a:pt x="21634" y="8928"/>
                  <a:pt x="21672" y="8920"/>
                </a:cubicBezTo>
                <a:cubicBezTo>
                  <a:pt x="21707" y="8913"/>
                  <a:pt x="21744" y="8893"/>
                  <a:pt x="21771" y="8870"/>
                </a:cubicBezTo>
                <a:cubicBezTo>
                  <a:pt x="21777" y="8864"/>
                  <a:pt x="21782" y="8859"/>
                  <a:pt x="21788" y="8853"/>
                </a:cubicBezTo>
              </a:path>
              <a:path w="2722" h="477">
                <a:moveTo>
                  <a:pt x="21670" y="8736"/>
                </a:moveTo>
                <a:cubicBezTo>
                  <a:pt x="21646" y="8710"/>
                  <a:pt x="21720" y="8703"/>
                  <a:pt x="21758" y="8695"/>
                </a:cubicBezTo>
                <a:cubicBezTo>
                  <a:pt x="21818" y="8683"/>
                  <a:pt x="21880" y="8671"/>
                  <a:pt x="21942" y="8675"/>
                </a:cubicBezTo>
                <a:cubicBezTo>
                  <a:pt x="21978" y="8680"/>
                  <a:pt x="21990" y="8681"/>
                  <a:pt x="22013" y="8686"/>
                </a:cubicBezTo>
              </a:path>
              <a:path w="2722" h="477">
                <a:moveTo>
                  <a:pt x="22155" y="8747"/>
                </a:moveTo>
                <a:cubicBezTo>
                  <a:pt x="22143" y="8788"/>
                  <a:pt x="22127" y="8828"/>
                  <a:pt x="22113" y="8868"/>
                </a:cubicBezTo>
                <a:cubicBezTo>
                  <a:pt x="22099" y="8909"/>
                  <a:pt x="22081" y="8957"/>
                  <a:pt x="22074" y="9000"/>
                </a:cubicBezTo>
                <a:cubicBezTo>
                  <a:pt x="22074" y="9006"/>
                  <a:pt x="22074" y="9011"/>
                  <a:pt x="22074" y="9017"/>
                </a:cubicBezTo>
              </a:path>
              <a:path w="2722" h="477">
                <a:moveTo>
                  <a:pt x="22110" y="8694"/>
                </a:moveTo>
                <a:cubicBezTo>
                  <a:pt x="22152" y="8667"/>
                  <a:pt x="22183" y="8669"/>
                  <a:pt x="22235" y="8675"/>
                </a:cubicBezTo>
                <a:cubicBezTo>
                  <a:pt x="22292" y="8682"/>
                  <a:pt x="22353" y="8699"/>
                  <a:pt x="22398" y="8736"/>
                </a:cubicBezTo>
                <a:cubicBezTo>
                  <a:pt x="22444" y="8774"/>
                  <a:pt x="22463" y="8828"/>
                  <a:pt x="22440" y="8884"/>
                </a:cubicBezTo>
                <a:cubicBezTo>
                  <a:pt x="22414" y="8948"/>
                  <a:pt x="22344" y="9003"/>
                  <a:pt x="22288" y="9040"/>
                </a:cubicBezTo>
                <a:cubicBezTo>
                  <a:pt x="22241" y="9071"/>
                  <a:pt x="22178" y="9099"/>
                  <a:pt x="22120" y="9089"/>
                </a:cubicBezTo>
                <a:cubicBezTo>
                  <a:pt x="22098" y="9081"/>
                  <a:pt x="22091" y="9078"/>
                  <a:pt x="22079" y="90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332840" y="3402000"/>
            <a:ext cx="1404720" cy="184320"/>
          </a:xfrm>
          <a:custGeom>
            <a:avLst/>
            <a:gdLst/>
            <a:ahLst/>
            <a:rect l="l" t="t" r="r" b="b"/>
            <a:pathLst>
              <a:path w="3904" h="511">
                <a:moveTo>
                  <a:pt x="20581" y="9468"/>
                </a:moveTo>
                <a:cubicBezTo>
                  <a:pt x="20587" y="9464"/>
                  <a:pt x="20593" y="9459"/>
                  <a:pt x="20599" y="9455"/>
                </a:cubicBezTo>
                <a:cubicBezTo>
                  <a:pt x="20587" y="9492"/>
                  <a:pt x="20561" y="9523"/>
                  <a:pt x="20540" y="9557"/>
                </a:cubicBezTo>
                <a:cubicBezTo>
                  <a:pt x="20493" y="9633"/>
                  <a:pt x="20449" y="9709"/>
                  <a:pt x="20409" y="9789"/>
                </a:cubicBezTo>
                <a:cubicBezTo>
                  <a:pt x="20397" y="9814"/>
                  <a:pt x="20383" y="9837"/>
                  <a:pt x="20369" y="9861"/>
                </a:cubicBezTo>
              </a:path>
              <a:path w="3904" h="511">
                <a:moveTo>
                  <a:pt x="20738" y="9482"/>
                </a:moveTo>
                <a:cubicBezTo>
                  <a:pt x="20761" y="9522"/>
                  <a:pt x="20752" y="9534"/>
                  <a:pt x="20733" y="9578"/>
                </a:cubicBezTo>
                <a:cubicBezTo>
                  <a:pt x="20707" y="9640"/>
                  <a:pt x="20681" y="9703"/>
                  <a:pt x="20655" y="9765"/>
                </a:cubicBezTo>
                <a:cubicBezTo>
                  <a:pt x="20645" y="9787"/>
                  <a:pt x="20642" y="9791"/>
                  <a:pt x="20641" y="9806"/>
                </a:cubicBezTo>
                <a:cubicBezTo>
                  <a:pt x="20670" y="9769"/>
                  <a:pt x="20692" y="9727"/>
                  <a:pt x="20720" y="9688"/>
                </a:cubicBezTo>
                <a:cubicBezTo>
                  <a:pt x="20761" y="9631"/>
                  <a:pt x="20806" y="9580"/>
                  <a:pt x="20861" y="9537"/>
                </a:cubicBezTo>
                <a:cubicBezTo>
                  <a:pt x="20883" y="9521"/>
                  <a:pt x="20888" y="9516"/>
                  <a:pt x="20904" y="9510"/>
                </a:cubicBezTo>
                <a:cubicBezTo>
                  <a:pt x="20913" y="9560"/>
                  <a:pt x="20893" y="9585"/>
                  <a:pt x="20871" y="9632"/>
                </a:cubicBezTo>
                <a:cubicBezTo>
                  <a:pt x="20856" y="9663"/>
                  <a:pt x="20846" y="9691"/>
                  <a:pt x="20837" y="9724"/>
                </a:cubicBezTo>
                <a:cubicBezTo>
                  <a:pt x="20887" y="9748"/>
                  <a:pt x="20914" y="9716"/>
                  <a:pt x="20961" y="9683"/>
                </a:cubicBezTo>
                <a:cubicBezTo>
                  <a:pt x="21048" y="9623"/>
                  <a:pt x="21125" y="9555"/>
                  <a:pt x="21194" y="9476"/>
                </a:cubicBezTo>
              </a:path>
              <a:path w="3904" h="511">
                <a:moveTo>
                  <a:pt x="21262" y="9482"/>
                </a:moveTo>
                <a:cubicBezTo>
                  <a:pt x="21280" y="9515"/>
                  <a:pt x="21275" y="9534"/>
                  <a:pt x="21257" y="9569"/>
                </a:cubicBezTo>
                <a:cubicBezTo>
                  <a:pt x="21232" y="9617"/>
                  <a:pt x="21206" y="9664"/>
                  <a:pt x="21182" y="9712"/>
                </a:cubicBezTo>
                <a:cubicBezTo>
                  <a:pt x="21169" y="9739"/>
                  <a:pt x="21166" y="9746"/>
                  <a:pt x="21155" y="9761"/>
                </a:cubicBezTo>
              </a:path>
              <a:path w="3904" h="511">
                <a:moveTo>
                  <a:pt x="21575" y="9510"/>
                </a:moveTo>
                <a:cubicBezTo>
                  <a:pt x="21582" y="9505"/>
                  <a:pt x="21588" y="9501"/>
                  <a:pt x="21595" y="9496"/>
                </a:cubicBezTo>
                <a:cubicBezTo>
                  <a:pt x="21596" y="9531"/>
                  <a:pt x="21576" y="9562"/>
                  <a:pt x="21563" y="9596"/>
                </a:cubicBezTo>
                <a:cubicBezTo>
                  <a:pt x="21540" y="9653"/>
                  <a:pt x="21521" y="9712"/>
                  <a:pt x="21499" y="9769"/>
                </a:cubicBezTo>
                <a:cubicBezTo>
                  <a:pt x="21489" y="9793"/>
                  <a:pt x="21486" y="9801"/>
                  <a:pt x="21490" y="9768"/>
                </a:cubicBezTo>
              </a:path>
              <a:path w="3904" h="511">
                <a:moveTo>
                  <a:pt x="21419" y="9513"/>
                </a:moveTo>
                <a:cubicBezTo>
                  <a:pt x="21456" y="9537"/>
                  <a:pt x="21477" y="9528"/>
                  <a:pt x="21522" y="9526"/>
                </a:cubicBezTo>
                <a:cubicBezTo>
                  <a:pt x="21579" y="9523"/>
                  <a:pt x="21635" y="9515"/>
                  <a:pt x="21691" y="9507"/>
                </a:cubicBezTo>
                <a:cubicBezTo>
                  <a:pt x="21728" y="9501"/>
                  <a:pt x="21739" y="9499"/>
                  <a:pt x="21763" y="9493"/>
                </a:cubicBezTo>
              </a:path>
              <a:path w="3904" h="511">
                <a:moveTo>
                  <a:pt x="21861" y="9461"/>
                </a:moveTo>
                <a:cubicBezTo>
                  <a:pt x="21854" y="9499"/>
                  <a:pt x="21844" y="9538"/>
                  <a:pt x="21827" y="9574"/>
                </a:cubicBezTo>
                <a:cubicBezTo>
                  <a:pt x="21801" y="9628"/>
                  <a:pt x="21776" y="9683"/>
                  <a:pt x="21750" y="9737"/>
                </a:cubicBezTo>
                <a:cubicBezTo>
                  <a:pt x="21736" y="9764"/>
                  <a:pt x="21733" y="9770"/>
                  <a:pt x="21723" y="9786"/>
                </a:cubicBezTo>
              </a:path>
              <a:path w="3904" h="511">
                <a:moveTo>
                  <a:pt x="21905" y="9855"/>
                </a:moveTo>
                <a:cubicBezTo>
                  <a:pt x="21937" y="9820"/>
                  <a:pt x="21964" y="9783"/>
                  <a:pt x="21993" y="9746"/>
                </a:cubicBezTo>
                <a:cubicBezTo>
                  <a:pt x="22034" y="9693"/>
                  <a:pt x="22076" y="9641"/>
                  <a:pt x="22121" y="9591"/>
                </a:cubicBezTo>
                <a:cubicBezTo>
                  <a:pt x="22152" y="9557"/>
                  <a:pt x="22181" y="9525"/>
                  <a:pt x="22218" y="9499"/>
                </a:cubicBezTo>
                <a:cubicBezTo>
                  <a:pt x="22211" y="9545"/>
                  <a:pt x="22194" y="9587"/>
                  <a:pt x="22182" y="9632"/>
                </a:cubicBezTo>
                <a:cubicBezTo>
                  <a:pt x="22165" y="9695"/>
                  <a:pt x="22152" y="9760"/>
                  <a:pt x="22147" y="9825"/>
                </a:cubicBezTo>
                <a:cubicBezTo>
                  <a:pt x="22145" y="9854"/>
                  <a:pt x="22147" y="9880"/>
                  <a:pt x="22152" y="9908"/>
                </a:cubicBezTo>
              </a:path>
              <a:path w="3904" h="511">
                <a:moveTo>
                  <a:pt x="22026" y="9708"/>
                </a:moveTo>
                <a:cubicBezTo>
                  <a:pt x="22059" y="9717"/>
                  <a:pt x="22079" y="9715"/>
                  <a:pt x="22113" y="9703"/>
                </a:cubicBezTo>
                <a:cubicBezTo>
                  <a:pt x="22151" y="9689"/>
                  <a:pt x="22189" y="9670"/>
                  <a:pt x="22225" y="9652"/>
                </a:cubicBezTo>
                <a:cubicBezTo>
                  <a:pt x="22234" y="9647"/>
                  <a:pt x="22244" y="9643"/>
                  <a:pt x="22253" y="9638"/>
                </a:cubicBezTo>
              </a:path>
              <a:path w="3904" h="511">
                <a:moveTo>
                  <a:pt x="22444" y="9523"/>
                </a:moveTo>
                <a:cubicBezTo>
                  <a:pt x="22450" y="9522"/>
                  <a:pt x="22456" y="9522"/>
                  <a:pt x="22462" y="9521"/>
                </a:cubicBezTo>
                <a:cubicBezTo>
                  <a:pt x="22458" y="9554"/>
                  <a:pt x="22438" y="9573"/>
                  <a:pt x="22418" y="9601"/>
                </a:cubicBezTo>
                <a:cubicBezTo>
                  <a:pt x="22388" y="9643"/>
                  <a:pt x="22359" y="9686"/>
                  <a:pt x="22335" y="9732"/>
                </a:cubicBezTo>
                <a:cubicBezTo>
                  <a:pt x="22322" y="9757"/>
                  <a:pt x="22318" y="9772"/>
                  <a:pt x="22318" y="9798"/>
                </a:cubicBezTo>
                <a:cubicBezTo>
                  <a:pt x="22364" y="9799"/>
                  <a:pt x="22396" y="9788"/>
                  <a:pt x="22434" y="9759"/>
                </a:cubicBezTo>
                <a:cubicBezTo>
                  <a:pt x="22477" y="9726"/>
                  <a:pt x="22517" y="9685"/>
                  <a:pt x="22554" y="9646"/>
                </a:cubicBezTo>
                <a:cubicBezTo>
                  <a:pt x="22562" y="9637"/>
                  <a:pt x="22571" y="9627"/>
                  <a:pt x="22579" y="9618"/>
                </a:cubicBezTo>
              </a:path>
              <a:path w="3904" h="511">
                <a:moveTo>
                  <a:pt x="22695" y="9489"/>
                </a:moveTo>
                <a:cubicBezTo>
                  <a:pt x="22703" y="9483"/>
                  <a:pt x="22710" y="9478"/>
                  <a:pt x="22718" y="9472"/>
                </a:cubicBezTo>
                <a:cubicBezTo>
                  <a:pt x="22721" y="9510"/>
                  <a:pt x="22700" y="9532"/>
                  <a:pt x="22681" y="9567"/>
                </a:cubicBezTo>
                <a:cubicBezTo>
                  <a:pt x="22654" y="9617"/>
                  <a:pt x="22632" y="9668"/>
                  <a:pt x="22612" y="9720"/>
                </a:cubicBezTo>
                <a:cubicBezTo>
                  <a:pt x="22602" y="9747"/>
                  <a:pt x="22600" y="9753"/>
                  <a:pt x="22594" y="9770"/>
                </a:cubicBezTo>
              </a:path>
              <a:path w="3904" h="511">
                <a:moveTo>
                  <a:pt x="22940" y="9520"/>
                </a:moveTo>
                <a:cubicBezTo>
                  <a:pt x="22969" y="9494"/>
                  <a:pt x="22994" y="9487"/>
                  <a:pt x="23033" y="9479"/>
                </a:cubicBezTo>
                <a:cubicBezTo>
                  <a:pt x="23067" y="9472"/>
                  <a:pt x="23097" y="9469"/>
                  <a:pt x="23130" y="9476"/>
                </a:cubicBezTo>
                <a:cubicBezTo>
                  <a:pt x="23137" y="9526"/>
                  <a:pt x="23111" y="9539"/>
                  <a:pt x="23074" y="9576"/>
                </a:cubicBezTo>
                <a:cubicBezTo>
                  <a:pt x="23020" y="9629"/>
                  <a:pt x="22940" y="9682"/>
                  <a:pt x="22909" y="9753"/>
                </a:cubicBezTo>
                <a:cubicBezTo>
                  <a:pt x="22908" y="9758"/>
                  <a:pt x="22907" y="9763"/>
                  <a:pt x="22906" y="9768"/>
                </a:cubicBezTo>
                <a:cubicBezTo>
                  <a:pt x="22949" y="9775"/>
                  <a:pt x="22975" y="9762"/>
                  <a:pt x="23014" y="9740"/>
                </a:cubicBezTo>
                <a:cubicBezTo>
                  <a:pt x="23049" y="9720"/>
                  <a:pt x="23082" y="9698"/>
                  <a:pt x="23116" y="9676"/>
                </a:cubicBezTo>
              </a:path>
              <a:path w="3904" h="511">
                <a:moveTo>
                  <a:pt x="23327" y="9545"/>
                </a:moveTo>
                <a:cubicBezTo>
                  <a:pt x="23319" y="9577"/>
                  <a:pt x="23305" y="9603"/>
                  <a:pt x="23289" y="9632"/>
                </a:cubicBezTo>
                <a:cubicBezTo>
                  <a:pt x="23275" y="9657"/>
                  <a:pt x="23251" y="9693"/>
                  <a:pt x="23263" y="9724"/>
                </a:cubicBezTo>
                <a:cubicBezTo>
                  <a:pt x="23276" y="9758"/>
                  <a:pt x="23311" y="9754"/>
                  <a:pt x="23339" y="9748"/>
                </a:cubicBezTo>
                <a:cubicBezTo>
                  <a:pt x="23370" y="9741"/>
                  <a:pt x="23390" y="9726"/>
                  <a:pt x="23415" y="9708"/>
                </a:cubicBezTo>
              </a:path>
              <a:path w="3904" h="511">
                <a:moveTo>
                  <a:pt x="23256" y="9624"/>
                </a:moveTo>
                <a:cubicBezTo>
                  <a:pt x="23252" y="9663"/>
                  <a:pt x="23267" y="9678"/>
                  <a:pt x="23311" y="9674"/>
                </a:cubicBezTo>
                <a:cubicBezTo>
                  <a:pt x="23347" y="9671"/>
                  <a:pt x="23384" y="9655"/>
                  <a:pt x="23411" y="9632"/>
                </a:cubicBezTo>
                <a:cubicBezTo>
                  <a:pt x="23416" y="9626"/>
                  <a:pt x="23422" y="9621"/>
                  <a:pt x="23427" y="9615"/>
                </a:cubicBezTo>
              </a:path>
              <a:path w="3904" h="511">
                <a:moveTo>
                  <a:pt x="23303" y="9488"/>
                </a:moveTo>
                <a:cubicBezTo>
                  <a:pt x="23284" y="9485"/>
                  <a:pt x="23279" y="9484"/>
                  <a:pt x="23267" y="9488"/>
                </a:cubicBezTo>
                <a:cubicBezTo>
                  <a:pt x="23306" y="9492"/>
                  <a:pt x="23344" y="9488"/>
                  <a:pt x="23383" y="9486"/>
                </a:cubicBezTo>
                <a:cubicBezTo>
                  <a:pt x="23423" y="9484"/>
                  <a:pt x="23463" y="9481"/>
                  <a:pt x="23503" y="9482"/>
                </a:cubicBezTo>
              </a:path>
              <a:path w="3904" h="511">
                <a:moveTo>
                  <a:pt x="23657" y="9496"/>
                </a:moveTo>
                <a:cubicBezTo>
                  <a:pt x="23678" y="9524"/>
                  <a:pt x="23660" y="9538"/>
                  <a:pt x="23644" y="9572"/>
                </a:cubicBezTo>
                <a:cubicBezTo>
                  <a:pt x="23617" y="9628"/>
                  <a:pt x="23590" y="9686"/>
                  <a:pt x="23577" y="9747"/>
                </a:cubicBezTo>
                <a:cubicBezTo>
                  <a:pt x="23564" y="9810"/>
                  <a:pt x="23601" y="9729"/>
                  <a:pt x="23604" y="9723"/>
                </a:cubicBezTo>
              </a:path>
              <a:path w="3904" h="511">
                <a:moveTo>
                  <a:pt x="23649" y="9466"/>
                </a:moveTo>
                <a:cubicBezTo>
                  <a:pt x="23681" y="9446"/>
                  <a:pt x="23705" y="9448"/>
                  <a:pt x="23743" y="9451"/>
                </a:cubicBezTo>
                <a:cubicBezTo>
                  <a:pt x="23795" y="9455"/>
                  <a:pt x="23873" y="9461"/>
                  <a:pt x="23918" y="9490"/>
                </a:cubicBezTo>
                <a:cubicBezTo>
                  <a:pt x="23925" y="9496"/>
                  <a:pt x="23931" y="9501"/>
                  <a:pt x="23938" y="9507"/>
                </a:cubicBezTo>
                <a:cubicBezTo>
                  <a:pt x="23907" y="9550"/>
                  <a:pt x="23869" y="9577"/>
                  <a:pt x="23828" y="9612"/>
                </a:cubicBezTo>
                <a:cubicBezTo>
                  <a:pt x="23782" y="9651"/>
                  <a:pt x="23723" y="9693"/>
                  <a:pt x="23691" y="9745"/>
                </a:cubicBezTo>
                <a:cubicBezTo>
                  <a:pt x="23683" y="9767"/>
                  <a:pt x="23679" y="9773"/>
                  <a:pt x="23689" y="9787"/>
                </a:cubicBezTo>
                <a:cubicBezTo>
                  <a:pt x="23737" y="9786"/>
                  <a:pt x="23773" y="9769"/>
                  <a:pt x="23816" y="9746"/>
                </a:cubicBezTo>
                <a:cubicBezTo>
                  <a:pt x="23831" y="9738"/>
                  <a:pt x="23845" y="9730"/>
                  <a:pt x="23860" y="9722"/>
                </a:cubicBezTo>
              </a:path>
              <a:path w="3904" h="511">
                <a:moveTo>
                  <a:pt x="24272" y="9492"/>
                </a:moveTo>
                <a:cubicBezTo>
                  <a:pt x="24233" y="9473"/>
                  <a:pt x="24213" y="9486"/>
                  <a:pt x="24170" y="9500"/>
                </a:cubicBezTo>
                <a:cubicBezTo>
                  <a:pt x="24137" y="9511"/>
                  <a:pt x="24086" y="9527"/>
                  <a:pt x="24070" y="9563"/>
                </a:cubicBezTo>
                <a:cubicBezTo>
                  <a:pt x="24053" y="9601"/>
                  <a:pt x="24102" y="9625"/>
                  <a:pt x="24125" y="9641"/>
                </a:cubicBezTo>
                <a:cubicBezTo>
                  <a:pt x="24168" y="9672"/>
                  <a:pt x="24231" y="9703"/>
                  <a:pt x="24230" y="9765"/>
                </a:cubicBezTo>
                <a:cubicBezTo>
                  <a:pt x="24229" y="9819"/>
                  <a:pt x="24180" y="9866"/>
                  <a:pt x="24144" y="9901"/>
                </a:cubicBezTo>
                <a:cubicBezTo>
                  <a:pt x="24110" y="9934"/>
                  <a:pt x="24065" y="9966"/>
                  <a:pt x="24015" y="9959"/>
                </a:cubicBezTo>
                <a:cubicBezTo>
                  <a:pt x="23994" y="9951"/>
                  <a:pt x="23987" y="9948"/>
                  <a:pt x="23980" y="99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240680" y="4764240"/>
            <a:ext cx="877680" cy="1014120"/>
          </a:xfrm>
          <a:custGeom>
            <a:avLst/>
            <a:gdLst/>
            <a:ahLst/>
            <a:rect l="l" t="t" r="r" b="b"/>
            <a:pathLst>
              <a:path w="2439" h="2818">
                <a:moveTo>
                  <a:pt x="22135" y="13365"/>
                </a:moveTo>
                <a:cubicBezTo>
                  <a:pt x="22142" y="13372"/>
                  <a:pt x="22152" y="13313"/>
                  <a:pt x="22181" y="13385"/>
                </a:cubicBezTo>
                <a:cubicBezTo>
                  <a:pt x="22204" y="13442"/>
                  <a:pt x="22196" y="13519"/>
                  <a:pt x="22189" y="13578"/>
                </a:cubicBezTo>
                <a:cubicBezTo>
                  <a:pt x="22173" y="13714"/>
                  <a:pt x="22132" y="13849"/>
                  <a:pt x="22070" y="13971"/>
                </a:cubicBezTo>
                <a:cubicBezTo>
                  <a:pt x="21863" y="14378"/>
                  <a:pt x="21517" y="14708"/>
                  <a:pt x="21201" y="15028"/>
                </a:cubicBezTo>
                <a:cubicBezTo>
                  <a:pt x="20875" y="15358"/>
                  <a:pt x="20532" y="15671"/>
                  <a:pt x="20188" y="15983"/>
                </a:cubicBezTo>
                <a:cubicBezTo>
                  <a:pt x="20163" y="16005"/>
                  <a:pt x="20138" y="16028"/>
                  <a:pt x="20113" y="16050"/>
                </a:cubicBezTo>
              </a:path>
              <a:path w="2439" h="2818">
                <a:moveTo>
                  <a:pt x="22004" y="13628"/>
                </a:moveTo>
                <a:cubicBezTo>
                  <a:pt x="22029" y="13563"/>
                  <a:pt x="22040" y="13494"/>
                  <a:pt x="22051" y="13425"/>
                </a:cubicBezTo>
                <a:cubicBezTo>
                  <a:pt x="22056" y="13389"/>
                  <a:pt x="22062" y="13354"/>
                  <a:pt x="22066" y="13318"/>
                </a:cubicBezTo>
                <a:cubicBezTo>
                  <a:pt x="22068" y="13300"/>
                  <a:pt x="22069" y="13293"/>
                  <a:pt x="22070" y="13281"/>
                </a:cubicBezTo>
                <a:cubicBezTo>
                  <a:pt x="22103" y="13287"/>
                  <a:pt x="22131" y="13282"/>
                  <a:pt x="22165" y="13281"/>
                </a:cubicBezTo>
                <a:cubicBezTo>
                  <a:pt x="22236" y="13279"/>
                  <a:pt x="22307" y="13281"/>
                  <a:pt x="22378" y="13272"/>
                </a:cubicBezTo>
                <a:cubicBezTo>
                  <a:pt x="22438" y="13264"/>
                  <a:pt x="22494" y="13250"/>
                  <a:pt x="22551" y="132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765840" y="5875200"/>
            <a:ext cx="1231920" cy="154080"/>
          </a:xfrm>
          <a:custGeom>
            <a:avLst/>
            <a:gdLst/>
            <a:ahLst/>
            <a:rect l="l" t="t" r="r" b="b"/>
            <a:pathLst>
              <a:path w="3420" h="426">
                <a:moveTo>
                  <a:pt x="18996" y="16334"/>
                </a:moveTo>
                <a:cubicBezTo>
                  <a:pt x="19029" y="16333"/>
                  <a:pt x="18991" y="16365"/>
                  <a:pt x="18976" y="16392"/>
                </a:cubicBezTo>
                <a:cubicBezTo>
                  <a:pt x="18944" y="16451"/>
                  <a:pt x="18917" y="16513"/>
                  <a:pt x="18887" y="16574"/>
                </a:cubicBezTo>
                <a:cubicBezTo>
                  <a:pt x="18863" y="16622"/>
                  <a:pt x="18839" y="16675"/>
                  <a:pt x="18808" y="16719"/>
                </a:cubicBezTo>
                <a:cubicBezTo>
                  <a:pt x="18803" y="16724"/>
                  <a:pt x="18799" y="16730"/>
                  <a:pt x="18794" y="16735"/>
                </a:cubicBezTo>
              </a:path>
              <a:path w="3420" h="426">
                <a:moveTo>
                  <a:pt x="19213" y="16409"/>
                </a:moveTo>
                <a:cubicBezTo>
                  <a:pt x="19219" y="16405"/>
                  <a:pt x="19224" y="16402"/>
                  <a:pt x="19230" y="16398"/>
                </a:cubicBezTo>
                <a:cubicBezTo>
                  <a:pt x="19214" y="16433"/>
                  <a:pt x="19196" y="16467"/>
                  <a:pt x="19180" y="16502"/>
                </a:cubicBezTo>
                <a:cubicBezTo>
                  <a:pt x="19156" y="16554"/>
                  <a:pt x="19136" y="16608"/>
                  <a:pt x="19113" y="16660"/>
                </a:cubicBezTo>
                <a:cubicBezTo>
                  <a:pt x="19101" y="16685"/>
                  <a:pt x="19098" y="16692"/>
                  <a:pt x="19089" y="16707"/>
                </a:cubicBezTo>
              </a:path>
              <a:path w="3420" h="426">
                <a:moveTo>
                  <a:pt x="19194" y="16439"/>
                </a:moveTo>
                <a:cubicBezTo>
                  <a:pt x="19206" y="16422"/>
                  <a:pt x="19210" y="16416"/>
                  <a:pt x="19225" y="16415"/>
                </a:cubicBezTo>
                <a:cubicBezTo>
                  <a:pt x="19230" y="16453"/>
                  <a:pt x="19229" y="16490"/>
                  <a:pt x="19232" y="16528"/>
                </a:cubicBezTo>
                <a:cubicBezTo>
                  <a:pt x="19234" y="16550"/>
                  <a:pt x="19228" y="16599"/>
                  <a:pt x="19262" y="16602"/>
                </a:cubicBezTo>
                <a:cubicBezTo>
                  <a:pt x="19296" y="16605"/>
                  <a:pt x="19335" y="16563"/>
                  <a:pt x="19355" y="16542"/>
                </a:cubicBezTo>
                <a:cubicBezTo>
                  <a:pt x="19387" y="16508"/>
                  <a:pt x="19415" y="16471"/>
                  <a:pt x="19443" y="16434"/>
                </a:cubicBezTo>
                <a:cubicBezTo>
                  <a:pt x="19448" y="16427"/>
                  <a:pt x="19453" y="16421"/>
                  <a:pt x="19458" y="16414"/>
                </a:cubicBezTo>
              </a:path>
              <a:path w="3420" h="426">
                <a:moveTo>
                  <a:pt x="19666" y="16389"/>
                </a:moveTo>
                <a:cubicBezTo>
                  <a:pt x="19680" y="16372"/>
                  <a:pt x="19686" y="16365"/>
                  <a:pt x="19695" y="16351"/>
                </a:cubicBezTo>
                <a:cubicBezTo>
                  <a:pt x="19675" y="16406"/>
                  <a:pt x="19648" y="16457"/>
                  <a:pt x="19627" y="16511"/>
                </a:cubicBezTo>
                <a:cubicBezTo>
                  <a:pt x="19607" y="16563"/>
                  <a:pt x="19590" y="16614"/>
                  <a:pt x="19567" y="16665"/>
                </a:cubicBezTo>
              </a:path>
              <a:path w="3420" h="426">
                <a:moveTo>
                  <a:pt x="19490" y="16395"/>
                </a:moveTo>
                <a:cubicBezTo>
                  <a:pt x="19536" y="16388"/>
                  <a:pt x="19582" y="16384"/>
                  <a:pt x="19628" y="16376"/>
                </a:cubicBezTo>
                <a:cubicBezTo>
                  <a:pt x="19686" y="16366"/>
                  <a:pt x="19745" y="16354"/>
                  <a:pt x="19803" y="16344"/>
                </a:cubicBezTo>
                <a:cubicBezTo>
                  <a:pt x="19817" y="16342"/>
                  <a:pt x="19830" y="16339"/>
                  <a:pt x="19844" y="16337"/>
                </a:cubicBezTo>
              </a:path>
              <a:path w="3420" h="426">
                <a:moveTo>
                  <a:pt x="19887" y="16423"/>
                </a:moveTo>
                <a:cubicBezTo>
                  <a:pt x="19922" y="16447"/>
                  <a:pt x="19911" y="16470"/>
                  <a:pt x="19897" y="16514"/>
                </a:cubicBezTo>
                <a:cubicBezTo>
                  <a:pt x="19885" y="16553"/>
                  <a:pt x="19875" y="16597"/>
                  <a:pt x="19856" y="16634"/>
                </a:cubicBezTo>
                <a:cubicBezTo>
                  <a:pt x="19844" y="16653"/>
                  <a:pt x="19840" y="16659"/>
                  <a:pt x="19839" y="16631"/>
                </a:cubicBezTo>
              </a:path>
              <a:path w="3420" h="426">
                <a:moveTo>
                  <a:pt x="19844" y="16399"/>
                </a:moveTo>
                <a:cubicBezTo>
                  <a:pt x="19864" y="16370"/>
                  <a:pt x="19882" y="16360"/>
                  <a:pt x="19916" y="16347"/>
                </a:cubicBezTo>
                <a:cubicBezTo>
                  <a:pt x="19962" y="16330"/>
                  <a:pt x="20004" y="16321"/>
                  <a:pt x="20053" y="16320"/>
                </a:cubicBezTo>
                <a:cubicBezTo>
                  <a:pt x="20082" y="16319"/>
                  <a:pt x="20138" y="16310"/>
                  <a:pt x="20158" y="16339"/>
                </a:cubicBezTo>
                <a:cubicBezTo>
                  <a:pt x="20178" y="16367"/>
                  <a:pt x="20136" y="16409"/>
                  <a:pt x="20121" y="16426"/>
                </a:cubicBezTo>
                <a:cubicBezTo>
                  <a:pt x="20085" y="16467"/>
                  <a:pt x="20045" y="16505"/>
                  <a:pt x="20005" y="16542"/>
                </a:cubicBezTo>
                <a:cubicBezTo>
                  <a:pt x="19983" y="16562"/>
                  <a:pt x="19973" y="16574"/>
                  <a:pt x="19961" y="16600"/>
                </a:cubicBezTo>
                <a:cubicBezTo>
                  <a:pt x="19992" y="16631"/>
                  <a:pt x="20005" y="16628"/>
                  <a:pt x="20049" y="16614"/>
                </a:cubicBezTo>
                <a:cubicBezTo>
                  <a:pt x="20079" y="16604"/>
                  <a:pt x="20107" y="16588"/>
                  <a:pt x="20136" y="16574"/>
                </a:cubicBezTo>
              </a:path>
              <a:path w="3420" h="426">
                <a:moveTo>
                  <a:pt x="20357" y="16453"/>
                </a:moveTo>
                <a:cubicBezTo>
                  <a:pt x="20367" y="16424"/>
                  <a:pt x="20367" y="16427"/>
                  <a:pt x="20357" y="16399"/>
                </a:cubicBezTo>
                <a:cubicBezTo>
                  <a:pt x="20318" y="16407"/>
                  <a:pt x="20294" y="16429"/>
                  <a:pt x="20269" y="16461"/>
                </a:cubicBezTo>
                <a:cubicBezTo>
                  <a:pt x="20243" y="16494"/>
                  <a:pt x="20206" y="16544"/>
                  <a:pt x="20209" y="16589"/>
                </a:cubicBezTo>
                <a:cubicBezTo>
                  <a:pt x="20211" y="16595"/>
                  <a:pt x="20214" y="16601"/>
                  <a:pt x="20216" y="16607"/>
                </a:cubicBezTo>
                <a:cubicBezTo>
                  <a:pt x="20262" y="16615"/>
                  <a:pt x="20289" y="16600"/>
                  <a:pt x="20328" y="16572"/>
                </a:cubicBezTo>
                <a:cubicBezTo>
                  <a:pt x="20368" y="16543"/>
                  <a:pt x="20419" y="16505"/>
                  <a:pt x="20441" y="16459"/>
                </a:cubicBezTo>
                <a:cubicBezTo>
                  <a:pt x="20460" y="16419"/>
                  <a:pt x="20449" y="16393"/>
                  <a:pt x="20426" y="16362"/>
                </a:cubicBezTo>
              </a:path>
              <a:path w="3420" h="426">
                <a:moveTo>
                  <a:pt x="20624" y="16358"/>
                </a:moveTo>
                <a:cubicBezTo>
                  <a:pt x="20636" y="16342"/>
                  <a:pt x="20640" y="16336"/>
                  <a:pt x="20649" y="16326"/>
                </a:cubicBezTo>
                <a:cubicBezTo>
                  <a:pt x="20634" y="16362"/>
                  <a:pt x="20615" y="16396"/>
                  <a:pt x="20599" y="16432"/>
                </a:cubicBezTo>
                <a:cubicBezTo>
                  <a:pt x="20580" y="16474"/>
                  <a:pt x="20561" y="16516"/>
                  <a:pt x="20539" y="16556"/>
                </a:cubicBezTo>
              </a:path>
              <a:path w="3420" h="426">
                <a:moveTo>
                  <a:pt x="20640" y="16338"/>
                </a:moveTo>
                <a:cubicBezTo>
                  <a:pt x="20671" y="16318"/>
                  <a:pt x="20687" y="16326"/>
                  <a:pt x="20720" y="16351"/>
                </a:cubicBezTo>
                <a:cubicBezTo>
                  <a:pt x="20752" y="16375"/>
                  <a:pt x="20783" y="16414"/>
                  <a:pt x="20790" y="16455"/>
                </a:cubicBezTo>
                <a:cubicBezTo>
                  <a:pt x="20800" y="16515"/>
                  <a:pt x="20763" y="16569"/>
                  <a:pt x="20726" y="16611"/>
                </a:cubicBezTo>
                <a:cubicBezTo>
                  <a:pt x="20687" y="16655"/>
                  <a:pt x="20635" y="16702"/>
                  <a:pt x="20576" y="16716"/>
                </a:cubicBezTo>
                <a:cubicBezTo>
                  <a:pt x="20531" y="16726"/>
                  <a:pt x="20511" y="16710"/>
                  <a:pt x="20492" y="16675"/>
                </a:cubicBezTo>
              </a:path>
              <a:path w="3420" h="426">
                <a:moveTo>
                  <a:pt x="20991" y="16398"/>
                </a:moveTo>
                <a:cubicBezTo>
                  <a:pt x="20959" y="16434"/>
                  <a:pt x="20938" y="16471"/>
                  <a:pt x="20923" y="16518"/>
                </a:cubicBezTo>
                <a:cubicBezTo>
                  <a:pt x="20911" y="16556"/>
                  <a:pt x="20899" y="16615"/>
                  <a:pt x="20937" y="16644"/>
                </a:cubicBezTo>
                <a:cubicBezTo>
                  <a:pt x="20978" y="16675"/>
                  <a:pt x="21043" y="16630"/>
                  <a:pt x="21076" y="16608"/>
                </a:cubicBezTo>
                <a:cubicBezTo>
                  <a:pt x="21130" y="16572"/>
                  <a:pt x="21177" y="16527"/>
                  <a:pt x="21207" y="16470"/>
                </a:cubicBezTo>
                <a:cubicBezTo>
                  <a:pt x="21225" y="16435"/>
                  <a:pt x="21234" y="16403"/>
                  <a:pt x="21234" y="16364"/>
                </a:cubicBezTo>
              </a:path>
              <a:path w="3420" h="426">
                <a:moveTo>
                  <a:pt x="21462" y="16387"/>
                </a:moveTo>
                <a:cubicBezTo>
                  <a:pt x="21482" y="16371"/>
                  <a:pt x="21490" y="16364"/>
                  <a:pt x="21500" y="16349"/>
                </a:cubicBezTo>
                <a:cubicBezTo>
                  <a:pt x="21444" y="16367"/>
                  <a:pt x="21410" y="16397"/>
                  <a:pt x="21367" y="16439"/>
                </a:cubicBezTo>
                <a:cubicBezTo>
                  <a:pt x="21321" y="16483"/>
                  <a:pt x="21267" y="16538"/>
                  <a:pt x="21242" y="16598"/>
                </a:cubicBezTo>
                <a:cubicBezTo>
                  <a:pt x="21223" y="16644"/>
                  <a:pt x="21243" y="16679"/>
                  <a:pt x="21295" y="16680"/>
                </a:cubicBezTo>
                <a:cubicBezTo>
                  <a:pt x="21361" y="16681"/>
                  <a:pt x="21433" y="16638"/>
                  <a:pt x="21488" y="16607"/>
                </a:cubicBezTo>
                <a:cubicBezTo>
                  <a:pt x="21505" y="16597"/>
                  <a:pt x="21521" y="16586"/>
                  <a:pt x="21538" y="16576"/>
                </a:cubicBezTo>
              </a:path>
              <a:path w="3420" h="426">
                <a:moveTo>
                  <a:pt x="21697" y="16417"/>
                </a:moveTo>
                <a:cubicBezTo>
                  <a:pt x="21680" y="16453"/>
                  <a:pt x="21664" y="16488"/>
                  <a:pt x="21647" y="16524"/>
                </a:cubicBezTo>
                <a:cubicBezTo>
                  <a:pt x="21631" y="16559"/>
                  <a:pt x="21608" y="16601"/>
                  <a:pt x="21614" y="16641"/>
                </a:cubicBezTo>
                <a:cubicBezTo>
                  <a:pt x="21620" y="16679"/>
                  <a:pt x="21649" y="16685"/>
                  <a:pt x="21679" y="16672"/>
                </a:cubicBezTo>
                <a:cubicBezTo>
                  <a:pt x="21710" y="16659"/>
                  <a:pt x="21733" y="16634"/>
                  <a:pt x="21758" y="16612"/>
                </a:cubicBezTo>
              </a:path>
              <a:path w="3420" h="426">
                <a:moveTo>
                  <a:pt x="21694" y="16470"/>
                </a:moveTo>
                <a:cubicBezTo>
                  <a:pt x="21672" y="16505"/>
                  <a:pt x="21660" y="16536"/>
                  <a:pt x="21717" y="16519"/>
                </a:cubicBezTo>
                <a:cubicBezTo>
                  <a:pt x="21741" y="16512"/>
                  <a:pt x="21756" y="16499"/>
                  <a:pt x="21775" y="16484"/>
                </a:cubicBezTo>
              </a:path>
              <a:path w="3420" h="426">
                <a:moveTo>
                  <a:pt x="21694" y="16352"/>
                </a:moveTo>
                <a:cubicBezTo>
                  <a:pt x="21687" y="16357"/>
                  <a:pt x="21681" y="16361"/>
                  <a:pt x="21674" y="16366"/>
                </a:cubicBezTo>
                <a:cubicBezTo>
                  <a:pt x="21705" y="16395"/>
                  <a:pt x="21729" y="16390"/>
                  <a:pt x="21772" y="16389"/>
                </a:cubicBezTo>
                <a:cubicBezTo>
                  <a:pt x="21846" y="16387"/>
                  <a:pt x="21920" y="16384"/>
                  <a:pt x="21994" y="16379"/>
                </a:cubicBezTo>
              </a:path>
              <a:path w="3420" h="426">
                <a:moveTo>
                  <a:pt x="22024" y="16445"/>
                </a:moveTo>
                <a:cubicBezTo>
                  <a:pt x="22011" y="16485"/>
                  <a:pt x="22001" y="16526"/>
                  <a:pt x="21991" y="16567"/>
                </a:cubicBezTo>
                <a:cubicBezTo>
                  <a:pt x="21990" y="16573"/>
                  <a:pt x="21969" y="16659"/>
                  <a:pt x="21979" y="16619"/>
                </a:cubicBezTo>
              </a:path>
              <a:path w="3420" h="426">
                <a:moveTo>
                  <a:pt x="22011" y="16348"/>
                </a:moveTo>
                <a:cubicBezTo>
                  <a:pt x="22034" y="16326"/>
                  <a:pt x="22053" y="16327"/>
                  <a:pt x="22089" y="16330"/>
                </a:cubicBezTo>
                <a:cubicBezTo>
                  <a:pt x="22126" y="16334"/>
                  <a:pt x="22159" y="16353"/>
                  <a:pt x="22184" y="16381"/>
                </a:cubicBezTo>
                <a:cubicBezTo>
                  <a:pt x="22220" y="16422"/>
                  <a:pt x="22219" y="16474"/>
                  <a:pt x="22204" y="16525"/>
                </a:cubicBezTo>
                <a:cubicBezTo>
                  <a:pt x="22180" y="16605"/>
                  <a:pt x="22113" y="16666"/>
                  <a:pt x="22046" y="16711"/>
                </a:cubicBezTo>
                <a:cubicBezTo>
                  <a:pt x="22003" y="16740"/>
                  <a:pt x="21953" y="16754"/>
                  <a:pt x="21902" y="16740"/>
                </a:cubicBezTo>
                <a:cubicBezTo>
                  <a:pt x="21878" y="16729"/>
                  <a:pt x="21870" y="16726"/>
                  <a:pt x="21858" y="1671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999120" y="6122880"/>
            <a:ext cx="812880" cy="235080"/>
          </a:xfrm>
          <a:custGeom>
            <a:avLst/>
            <a:gdLst/>
            <a:ahLst/>
            <a:rect l="l" t="t" r="r" b="b"/>
            <a:pathLst>
              <a:path w="2261" h="652">
                <a:moveTo>
                  <a:pt x="19639" y="17184"/>
                </a:moveTo>
                <a:cubicBezTo>
                  <a:pt x="19645" y="17182"/>
                  <a:pt x="19650" y="17181"/>
                  <a:pt x="19656" y="17179"/>
                </a:cubicBezTo>
                <a:cubicBezTo>
                  <a:pt x="19638" y="17225"/>
                  <a:pt x="19609" y="17266"/>
                  <a:pt x="19581" y="17307"/>
                </a:cubicBezTo>
                <a:cubicBezTo>
                  <a:pt x="19547" y="17358"/>
                  <a:pt x="19513" y="17437"/>
                  <a:pt x="19458" y="17470"/>
                </a:cubicBezTo>
                <a:cubicBezTo>
                  <a:pt x="19452" y="17471"/>
                  <a:pt x="19447" y="17473"/>
                  <a:pt x="19441" y="17474"/>
                </a:cubicBezTo>
              </a:path>
              <a:path w="2261" h="652">
                <a:moveTo>
                  <a:pt x="19653" y="17152"/>
                </a:moveTo>
                <a:cubicBezTo>
                  <a:pt x="19669" y="17129"/>
                  <a:pt x="19685" y="17107"/>
                  <a:pt x="19702" y="17085"/>
                </a:cubicBezTo>
                <a:cubicBezTo>
                  <a:pt x="19708" y="17141"/>
                  <a:pt x="19695" y="17182"/>
                  <a:pt x="19686" y="17238"/>
                </a:cubicBezTo>
                <a:cubicBezTo>
                  <a:pt x="19681" y="17267"/>
                  <a:pt x="19680" y="17294"/>
                  <a:pt x="19681" y="17323"/>
                </a:cubicBezTo>
                <a:cubicBezTo>
                  <a:pt x="19724" y="17331"/>
                  <a:pt x="19739" y="17309"/>
                  <a:pt x="19770" y="17275"/>
                </a:cubicBezTo>
                <a:cubicBezTo>
                  <a:pt x="19805" y="17236"/>
                  <a:pt x="19834" y="17193"/>
                  <a:pt x="19869" y="17155"/>
                </a:cubicBezTo>
                <a:cubicBezTo>
                  <a:pt x="19875" y="17150"/>
                  <a:pt x="19880" y="17144"/>
                  <a:pt x="19886" y="17139"/>
                </a:cubicBezTo>
                <a:cubicBezTo>
                  <a:pt x="19875" y="17206"/>
                  <a:pt x="19846" y="17249"/>
                  <a:pt x="19814" y="17310"/>
                </a:cubicBezTo>
                <a:cubicBezTo>
                  <a:pt x="19806" y="17324"/>
                  <a:pt x="19741" y="17432"/>
                  <a:pt x="19750" y="17450"/>
                </a:cubicBezTo>
                <a:cubicBezTo>
                  <a:pt x="19755" y="17448"/>
                  <a:pt x="19760" y="17446"/>
                  <a:pt x="19765" y="17444"/>
                </a:cubicBezTo>
              </a:path>
              <a:path w="2261" h="652">
                <a:moveTo>
                  <a:pt x="20055" y="17184"/>
                </a:moveTo>
                <a:cubicBezTo>
                  <a:pt x="20077" y="17178"/>
                  <a:pt x="20084" y="17173"/>
                  <a:pt x="20088" y="17192"/>
                </a:cubicBezTo>
                <a:cubicBezTo>
                  <a:pt x="20074" y="17230"/>
                  <a:pt x="20051" y="17265"/>
                  <a:pt x="20033" y="17302"/>
                </a:cubicBezTo>
                <a:cubicBezTo>
                  <a:pt x="20009" y="17350"/>
                  <a:pt x="19976" y="17405"/>
                  <a:pt x="19971" y="17460"/>
                </a:cubicBezTo>
                <a:cubicBezTo>
                  <a:pt x="19967" y="17504"/>
                  <a:pt x="20001" y="17508"/>
                  <a:pt x="20033" y="17493"/>
                </a:cubicBezTo>
                <a:cubicBezTo>
                  <a:pt x="20081" y="17470"/>
                  <a:pt x="20112" y="17431"/>
                  <a:pt x="20144" y="17390"/>
                </a:cubicBezTo>
              </a:path>
              <a:path w="2261" h="652">
                <a:moveTo>
                  <a:pt x="20092" y="17252"/>
                </a:moveTo>
                <a:cubicBezTo>
                  <a:pt x="20085" y="17259"/>
                  <a:pt x="20079" y="17267"/>
                  <a:pt x="20072" y="17274"/>
                </a:cubicBezTo>
                <a:cubicBezTo>
                  <a:pt x="20103" y="17282"/>
                  <a:pt x="20116" y="17275"/>
                  <a:pt x="20141" y="17252"/>
                </a:cubicBezTo>
                <a:cubicBezTo>
                  <a:pt x="20158" y="17234"/>
                  <a:pt x="20164" y="17226"/>
                  <a:pt x="20166" y="17207"/>
                </a:cubicBezTo>
              </a:path>
              <a:path w="2261" h="652">
                <a:moveTo>
                  <a:pt x="20022" y="17132"/>
                </a:moveTo>
                <a:cubicBezTo>
                  <a:pt x="20015" y="17137"/>
                  <a:pt x="20008" y="17142"/>
                  <a:pt x="20001" y="17147"/>
                </a:cubicBezTo>
                <a:cubicBezTo>
                  <a:pt x="20047" y="17162"/>
                  <a:pt x="20075" y="17153"/>
                  <a:pt x="20125" y="17147"/>
                </a:cubicBezTo>
                <a:cubicBezTo>
                  <a:pt x="20182" y="17140"/>
                  <a:pt x="20240" y="17137"/>
                  <a:pt x="20297" y="17130"/>
                </a:cubicBezTo>
                <a:cubicBezTo>
                  <a:pt x="20311" y="17128"/>
                  <a:pt x="20325" y="17126"/>
                  <a:pt x="20339" y="17124"/>
                </a:cubicBezTo>
              </a:path>
              <a:path w="2261" h="652">
                <a:moveTo>
                  <a:pt x="20331" y="17116"/>
                </a:moveTo>
                <a:cubicBezTo>
                  <a:pt x="20379" y="17113"/>
                  <a:pt x="20413" y="17096"/>
                  <a:pt x="20458" y="17080"/>
                </a:cubicBezTo>
                <a:cubicBezTo>
                  <a:pt x="20530" y="17054"/>
                  <a:pt x="20605" y="17048"/>
                  <a:pt x="20679" y="17032"/>
                </a:cubicBezTo>
                <a:cubicBezTo>
                  <a:pt x="20707" y="17026"/>
                  <a:pt x="20724" y="17021"/>
                  <a:pt x="20749" y="17008"/>
                </a:cubicBezTo>
              </a:path>
              <a:path w="2261" h="652">
                <a:moveTo>
                  <a:pt x="20587" y="17078"/>
                </a:moveTo>
                <a:cubicBezTo>
                  <a:pt x="20547" y="17130"/>
                  <a:pt x="20509" y="17185"/>
                  <a:pt x="20468" y="17236"/>
                </a:cubicBezTo>
                <a:cubicBezTo>
                  <a:pt x="20427" y="17287"/>
                  <a:pt x="20384" y="17334"/>
                  <a:pt x="20348" y="17390"/>
                </a:cubicBezTo>
                <a:cubicBezTo>
                  <a:pt x="20334" y="17412"/>
                  <a:pt x="20291" y="17448"/>
                  <a:pt x="20335" y="17428"/>
                </a:cubicBezTo>
              </a:path>
              <a:path w="2261" h="652">
                <a:moveTo>
                  <a:pt x="20699" y="17118"/>
                </a:moveTo>
                <a:cubicBezTo>
                  <a:pt x="20706" y="17117"/>
                  <a:pt x="20714" y="17117"/>
                  <a:pt x="20721" y="17116"/>
                </a:cubicBezTo>
                <a:cubicBezTo>
                  <a:pt x="20712" y="17165"/>
                  <a:pt x="20691" y="17188"/>
                  <a:pt x="20665" y="17230"/>
                </a:cubicBezTo>
                <a:cubicBezTo>
                  <a:pt x="20638" y="17275"/>
                  <a:pt x="20617" y="17324"/>
                  <a:pt x="20590" y="17368"/>
                </a:cubicBezTo>
                <a:cubicBezTo>
                  <a:pt x="20575" y="17386"/>
                  <a:pt x="20571" y="17391"/>
                  <a:pt x="20563" y="17404"/>
                </a:cubicBezTo>
              </a:path>
              <a:path w="2261" h="652">
                <a:moveTo>
                  <a:pt x="20585" y="17248"/>
                </a:moveTo>
                <a:cubicBezTo>
                  <a:pt x="20613" y="17267"/>
                  <a:pt x="20642" y="17265"/>
                  <a:pt x="20679" y="17260"/>
                </a:cubicBezTo>
                <a:cubicBezTo>
                  <a:pt x="20730" y="17253"/>
                  <a:pt x="20773" y="17237"/>
                  <a:pt x="20816" y="17211"/>
                </a:cubicBezTo>
              </a:path>
              <a:path w="2261" h="652">
                <a:moveTo>
                  <a:pt x="20939" y="17049"/>
                </a:moveTo>
                <a:cubicBezTo>
                  <a:pt x="20932" y="17092"/>
                  <a:pt x="20918" y="17130"/>
                  <a:pt x="20897" y="17169"/>
                </a:cubicBezTo>
                <a:cubicBezTo>
                  <a:pt x="20868" y="17224"/>
                  <a:pt x="20827" y="17273"/>
                  <a:pt x="20796" y="17327"/>
                </a:cubicBezTo>
                <a:cubicBezTo>
                  <a:pt x="20775" y="17363"/>
                  <a:pt x="20756" y="17396"/>
                  <a:pt x="20729" y="17427"/>
                </a:cubicBezTo>
              </a:path>
              <a:path w="2261" h="652">
                <a:moveTo>
                  <a:pt x="21175" y="17196"/>
                </a:moveTo>
                <a:cubicBezTo>
                  <a:pt x="21143" y="17229"/>
                  <a:pt x="21109" y="17262"/>
                  <a:pt x="21080" y="17298"/>
                </a:cubicBezTo>
                <a:cubicBezTo>
                  <a:pt x="21054" y="17331"/>
                  <a:pt x="21043" y="17359"/>
                  <a:pt x="21046" y="17399"/>
                </a:cubicBezTo>
                <a:cubicBezTo>
                  <a:pt x="21100" y="17411"/>
                  <a:pt x="21128" y="17400"/>
                  <a:pt x="21175" y="17365"/>
                </a:cubicBezTo>
                <a:cubicBezTo>
                  <a:pt x="21214" y="17336"/>
                  <a:pt x="21248" y="17294"/>
                  <a:pt x="21259" y="17245"/>
                </a:cubicBezTo>
                <a:cubicBezTo>
                  <a:pt x="21266" y="17211"/>
                  <a:pt x="21251" y="17186"/>
                  <a:pt x="21217" y="17181"/>
                </a:cubicBezTo>
                <a:cubicBezTo>
                  <a:pt x="21198" y="17178"/>
                  <a:pt x="21147" y="17195"/>
                  <a:pt x="21147" y="17220"/>
                </a:cubicBezTo>
                <a:cubicBezTo>
                  <a:pt x="21152" y="17225"/>
                  <a:pt x="21156" y="17230"/>
                  <a:pt x="21161" y="17235"/>
                </a:cubicBezTo>
              </a:path>
              <a:path w="2261" h="652">
                <a:moveTo>
                  <a:pt x="21502" y="17157"/>
                </a:moveTo>
                <a:cubicBezTo>
                  <a:pt x="21508" y="17157"/>
                  <a:pt x="21514" y="17156"/>
                  <a:pt x="21520" y="17156"/>
                </a:cubicBezTo>
                <a:cubicBezTo>
                  <a:pt x="21514" y="17189"/>
                  <a:pt x="21498" y="17203"/>
                  <a:pt x="21478" y="17230"/>
                </a:cubicBezTo>
                <a:cubicBezTo>
                  <a:pt x="21451" y="17267"/>
                  <a:pt x="21434" y="17307"/>
                  <a:pt x="21412" y="17346"/>
                </a:cubicBezTo>
                <a:cubicBezTo>
                  <a:pt x="21398" y="17366"/>
                  <a:pt x="21396" y="17369"/>
                  <a:pt x="21422" y="17341"/>
                </a:cubicBezTo>
              </a:path>
              <a:path w="2261" h="652">
                <a:moveTo>
                  <a:pt x="21424" y="17073"/>
                </a:moveTo>
                <a:cubicBezTo>
                  <a:pt x="21405" y="17041"/>
                  <a:pt x="21465" y="17064"/>
                  <a:pt x="21501" y="17071"/>
                </a:cubicBezTo>
                <a:cubicBezTo>
                  <a:pt x="21571" y="17085"/>
                  <a:pt x="21656" y="17112"/>
                  <a:pt x="21690" y="17182"/>
                </a:cubicBezTo>
                <a:cubicBezTo>
                  <a:pt x="21723" y="17250"/>
                  <a:pt x="21684" y="17321"/>
                  <a:pt x="21643" y="17374"/>
                </a:cubicBezTo>
                <a:cubicBezTo>
                  <a:pt x="21579" y="17456"/>
                  <a:pt x="21493" y="17527"/>
                  <a:pt x="21407" y="17583"/>
                </a:cubicBezTo>
                <a:cubicBezTo>
                  <a:pt x="21348" y="17622"/>
                  <a:pt x="21293" y="17648"/>
                  <a:pt x="21224" y="17659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view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559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ree view links (outline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ditor gutter annotations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ocumentation (ajdoc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uild configuration editor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visualizer…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5" name=""/>
          <p:cNvGraphicFramePr/>
          <p:nvPr/>
        </p:nvGraphicFramePr>
        <p:xfrm>
          <a:off x="4424400" y="3324240"/>
          <a:ext cx="4191120" cy="73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4400" y="3324240"/>
                    <a:ext cx="419112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7" name=""/>
          <p:cNvGraphicFramePr/>
          <p:nvPr/>
        </p:nvGraphicFramePr>
        <p:xfrm>
          <a:off x="4572000" y="1219320"/>
          <a:ext cx="4038480" cy="861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219320"/>
                    <a:ext cx="4038480" cy="86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9" name=""/>
          <p:cNvGraphicFramePr/>
          <p:nvPr/>
        </p:nvGraphicFramePr>
        <p:xfrm>
          <a:off x="4719600" y="2252520"/>
          <a:ext cx="4002120" cy="785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19600" y="2252520"/>
                    <a:ext cx="4002120" cy="7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5257800" y="4495680"/>
          <a:ext cx="2895480" cy="1003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57800" y="4495680"/>
                    <a:ext cx="2895480" cy="10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aspect visualizer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tools suit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V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build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7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9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tbeans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8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brows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5565600" y="3763800"/>
            <a:ext cx="908280" cy="169920"/>
          </a:xfrm>
          <a:custGeom>
            <a:avLst/>
            <a:gdLst/>
            <a:ahLst/>
            <a:rect l="l" t="t" r="r" b="b"/>
            <a:pathLst>
              <a:path w="2524" h="471">
                <a:moveTo>
                  <a:pt x="15617" y="10652"/>
                </a:moveTo>
                <a:cubicBezTo>
                  <a:pt x="15660" y="10613"/>
                  <a:pt x="15569" y="10718"/>
                  <a:pt x="15560" y="10730"/>
                </a:cubicBezTo>
                <a:cubicBezTo>
                  <a:pt x="15525" y="10778"/>
                  <a:pt x="15492" y="10827"/>
                  <a:pt x="15469" y="10882"/>
                </a:cubicBezTo>
                <a:cubicBezTo>
                  <a:pt x="15460" y="10905"/>
                  <a:pt x="15457" y="10910"/>
                  <a:pt x="15460" y="10926"/>
                </a:cubicBezTo>
                <a:cubicBezTo>
                  <a:pt x="15515" y="10922"/>
                  <a:pt x="15550" y="10901"/>
                  <a:pt x="15598" y="10872"/>
                </a:cubicBezTo>
                <a:cubicBezTo>
                  <a:pt x="15652" y="10839"/>
                  <a:pt x="15705" y="10803"/>
                  <a:pt x="15760" y="10772"/>
                </a:cubicBezTo>
                <a:cubicBezTo>
                  <a:pt x="15785" y="10759"/>
                  <a:pt x="15792" y="10755"/>
                  <a:pt x="15809" y="10748"/>
                </a:cubicBezTo>
              </a:path>
              <a:path w="2524" h="471">
                <a:moveTo>
                  <a:pt x="15982" y="10647"/>
                </a:moveTo>
                <a:cubicBezTo>
                  <a:pt x="15988" y="10639"/>
                  <a:pt x="15995" y="10631"/>
                  <a:pt x="16001" y="10623"/>
                </a:cubicBezTo>
                <a:cubicBezTo>
                  <a:pt x="15971" y="10672"/>
                  <a:pt x="15936" y="10718"/>
                  <a:pt x="15906" y="10767"/>
                </a:cubicBezTo>
                <a:cubicBezTo>
                  <a:pt x="15884" y="10803"/>
                  <a:pt x="15859" y="10841"/>
                  <a:pt x="15843" y="10880"/>
                </a:cubicBezTo>
                <a:cubicBezTo>
                  <a:pt x="15841" y="10886"/>
                  <a:pt x="15840" y="10892"/>
                  <a:pt x="15838" y="10898"/>
                </a:cubicBezTo>
              </a:path>
              <a:path w="2524" h="471">
                <a:moveTo>
                  <a:pt x="16157" y="10640"/>
                </a:moveTo>
                <a:cubicBezTo>
                  <a:pt x="16154" y="10676"/>
                  <a:pt x="16136" y="10702"/>
                  <a:pt x="16117" y="10734"/>
                </a:cubicBezTo>
                <a:cubicBezTo>
                  <a:pt x="16093" y="10775"/>
                  <a:pt x="16071" y="10816"/>
                  <a:pt x="16049" y="10858"/>
                </a:cubicBezTo>
                <a:cubicBezTo>
                  <a:pt x="16046" y="10863"/>
                  <a:pt x="16043" y="10869"/>
                  <a:pt x="16040" y="10874"/>
                </a:cubicBezTo>
                <a:cubicBezTo>
                  <a:pt x="16082" y="10823"/>
                  <a:pt x="16120" y="10770"/>
                  <a:pt x="16159" y="10716"/>
                </a:cubicBezTo>
                <a:cubicBezTo>
                  <a:pt x="16198" y="10662"/>
                  <a:pt x="16238" y="10609"/>
                  <a:pt x="16284" y="10561"/>
                </a:cubicBezTo>
                <a:cubicBezTo>
                  <a:pt x="16300" y="10545"/>
                  <a:pt x="16303" y="10538"/>
                  <a:pt x="16318" y="10543"/>
                </a:cubicBezTo>
                <a:cubicBezTo>
                  <a:pt x="16297" y="10604"/>
                  <a:pt x="16219" y="10726"/>
                  <a:pt x="16247" y="10791"/>
                </a:cubicBezTo>
                <a:cubicBezTo>
                  <a:pt x="16252" y="10796"/>
                  <a:pt x="16256" y="10802"/>
                  <a:pt x="16261" y="10807"/>
                </a:cubicBezTo>
                <a:cubicBezTo>
                  <a:pt x="16317" y="10806"/>
                  <a:pt x="16356" y="10783"/>
                  <a:pt x="16402" y="10750"/>
                </a:cubicBezTo>
                <a:cubicBezTo>
                  <a:pt x="16464" y="10706"/>
                  <a:pt x="16520" y="10651"/>
                  <a:pt x="16564" y="10589"/>
                </a:cubicBezTo>
                <a:cubicBezTo>
                  <a:pt x="16575" y="10572"/>
                  <a:pt x="16578" y="10566"/>
                  <a:pt x="16578" y="10552"/>
                </a:cubicBezTo>
              </a:path>
              <a:path w="2524" h="471">
                <a:moveTo>
                  <a:pt x="16696" y="10552"/>
                </a:moveTo>
                <a:cubicBezTo>
                  <a:pt x="16682" y="10603"/>
                  <a:pt x="16660" y="10649"/>
                  <a:pt x="16636" y="10697"/>
                </a:cubicBezTo>
                <a:cubicBezTo>
                  <a:pt x="16616" y="10737"/>
                  <a:pt x="16598" y="10775"/>
                  <a:pt x="16588" y="10819"/>
                </a:cubicBezTo>
                <a:cubicBezTo>
                  <a:pt x="16642" y="10817"/>
                  <a:pt x="16677" y="10781"/>
                  <a:pt x="16723" y="10748"/>
                </a:cubicBezTo>
                <a:cubicBezTo>
                  <a:pt x="16842" y="10661"/>
                  <a:pt x="16966" y="10572"/>
                  <a:pt x="17075" y="10472"/>
                </a:cubicBezTo>
                <a:cubicBezTo>
                  <a:pt x="17091" y="10454"/>
                  <a:pt x="17093" y="10451"/>
                  <a:pt x="17063" y="10474"/>
                </a:cubicBezTo>
              </a:path>
              <a:path w="2524" h="471">
                <a:moveTo>
                  <a:pt x="16782" y="10637"/>
                </a:moveTo>
                <a:cubicBezTo>
                  <a:pt x="16769" y="10668"/>
                  <a:pt x="16766" y="10694"/>
                  <a:pt x="16767" y="10728"/>
                </a:cubicBezTo>
                <a:cubicBezTo>
                  <a:pt x="16769" y="10768"/>
                  <a:pt x="16780" y="10823"/>
                  <a:pt x="16822" y="10841"/>
                </a:cubicBezTo>
                <a:cubicBezTo>
                  <a:pt x="16847" y="10852"/>
                  <a:pt x="16864" y="10839"/>
                  <a:pt x="16886" y="10829"/>
                </a:cubicBezTo>
              </a:path>
              <a:path w="2524" h="471">
                <a:moveTo>
                  <a:pt x="17460" y="10644"/>
                </a:moveTo>
                <a:cubicBezTo>
                  <a:pt x="17463" y="10637"/>
                  <a:pt x="17466" y="10631"/>
                  <a:pt x="17469" y="10624"/>
                </a:cubicBezTo>
                <a:cubicBezTo>
                  <a:pt x="17441" y="10660"/>
                  <a:pt x="17417" y="10698"/>
                  <a:pt x="17397" y="10739"/>
                </a:cubicBezTo>
                <a:cubicBezTo>
                  <a:pt x="17374" y="10786"/>
                  <a:pt x="17353" y="10841"/>
                  <a:pt x="17346" y="10893"/>
                </a:cubicBezTo>
                <a:cubicBezTo>
                  <a:pt x="17346" y="10916"/>
                  <a:pt x="17344" y="10925"/>
                  <a:pt x="17366" y="10920"/>
                </a:cubicBezTo>
              </a:path>
              <a:path w="2524" h="471">
                <a:moveTo>
                  <a:pt x="17292" y="10622"/>
                </a:moveTo>
                <a:cubicBezTo>
                  <a:pt x="17279" y="10579"/>
                  <a:pt x="17307" y="10575"/>
                  <a:pt x="17358" y="10572"/>
                </a:cubicBezTo>
                <a:cubicBezTo>
                  <a:pt x="17427" y="10569"/>
                  <a:pt x="17496" y="10566"/>
                  <a:pt x="17565" y="10566"/>
                </a:cubicBezTo>
                <a:cubicBezTo>
                  <a:pt x="17638" y="10566"/>
                  <a:pt x="17711" y="10564"/>
                  <a:pt x="17784" y="10561"/>
                </a:cubicBezTo>
              </a:path>
              <a:path w="2524" h="471">
                <a:moveTo>
                  <a:pt x="17795" y="10670"/>
                </a:moveTo>
                <a:cubicBezTo>
                  <a:pt x="17754" y="10669"/>
                  <a:pt x="17733" y="10684"/>
                  <a:pt x="17707" y="10719"/>
                </a:cubicBezTo>
                <a:cubicBezTo>
                  <a:pt x="17681" y="10754"/>
                  <a:pt x="17646" y="10815"/>
                  <a:pt x="17660" y="10861"/>
                </a:cubicBezTo>
                <a:cubicBezTo>
                  <a:pt x="17676" y="10916"/>
                  <a:pt x="17753" y="10909"/>
                  <a:pt x="17794" y="10896"/>
                </a:cubicBezTo>
                <a:cubicBezTo>
                  <a:pt x="17868" y="10872"/>
                  <a:pt x="17953" y="10804"/>
                  <a:pt x="17978" y="10728"/>
                </a:cubicBezTo>
                <a:cubicBezTo>
                  <a:pt x="17991" y="10687"/>
                  <a:pt x="17974" y="10645"/>
                  <a:pt x="17939" y="10622"/>
                </a:cubicBezTo>
                <a:cubicBezTo>
                  <a:pt x="17903" y="10598"/>
                  <a:pt x="17858" y="10607"/>
                  <a:pt x="17821" y="10624"/>
                </a:cubicBezTo>
                <a:cubicBezTo>
                  <a:pt x="17792" y="10641"/>
                  <a:pt x="17782" y="10647"/>
                  <a:pt x="17763" y="10659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715000" y="4016520"/>
            <a:ext cx="1000080" cy="177480"/>
          </a:xfrm>
          <a:custGeom>
            <a:avLst/>
            <a:gdLst/>
            <a:ahLst/>
            <a:rect l="l" t="t" r="r" b="b"/>
            <a:pathLst>
              <a:path w="2775" h="496">
                <a:moveTo>
                  <a:pt x="15876" y="11650"/>
                </a:moveTo>
                <a:cubicBezTo>
                  <a:pt x="15924" y="11611"/>
                  <a:pt x="15964" y="11567"/>
                  <a:pt x="16007" y="11523"/>
                </a:cubicBezTo>
                <a:cubicBezTo>
                  <a:pt x="16115" y="11412"/>
                  <a:pt x="16213" y="11268"/>
                  <a:pt x="16337" y="11176"/>
                </a:cubicBezTo>
                <a:cubicBezTo>
                  <a:pt x="16342" y="11173"/>
                  <a:pt x="16347" y="11171"/>
                  <a:pt x="16352" y="11168"/>
                </a:cubicBezTo>
                <a:cubicBezTo>
                  <a:pt x="16341" y="11225"/>
                  <a:pt x="16313" y="11278"/>
                  <a:pt x="16290" y="11332"/>
                </a:cubicBezTo>
                <a:cubicBezTo>
                  <a:pt x="16260" y="11403"/>
                  <a:pt x="16231" y="11471"/>
                  <a:pt x="16215" y="11547"/>
                </a:cubicBezTo>
                <a:cubicBezTo>
                  <a:pt x="16209" y="11580"/>
                  <a:pt x="16207" y="11586"/>
                  <a:pt x="16206" y="11606"/>
                </a:cubicBezTo>
              </a:path>
              <a:path w="2775" h="496">
                <a:moveTo>
                  <a:pt x="16111" y="11447"/>
                </a:moveTo>
                <a:cubicBezTo>
                  <a:pt x="16113" y="11406"/>
                  <a:pt x="16119" y="11394"/>
                  <a:pt x="16163" y="11384"/>
                </a:cubicBezTo>
                <a:cubicBezTo>
                  <a:pt x="16229" y="11369"/>
                  <a:pt x="16296" y="11362"/>
                  <a:pt x="16363" y="11351"/>
                </a:cubicBezTo>
                <a:cubicBezTo>
                  <a:pt x="16408" y="11344"/>
                  <a:pt x="16448" y="11332"/>
                  <a:pt x="16491" y="11317"/>
                </a:cubicBezTo>
              </a:path>
              <a:path w="2775" h="496">
                <a:moveTo>
                  <a:pt x="16583" y="11244"/>
                </a:moveTo>
                <a:cubicBezTo>
                  <a:pt x="16569" y="11292"/>
                  <a:pt x="16551" y="11335"/>
                  <a:pt x="16532" y="11381"/>
                </a:cubicBezTo>
                <a:cubicBezTo>
                  <a:pt x="16510" y="11433"/>
                  <a:pt x="16490" y="11484"/>
                  <a:pt x="16470" y="11536"/>
                </a:cubicBezTo>
                <a:cubicBezTo>
                  <a:pt x="16462" y="11556"/>
                  <a:pt x="16459" y="11561"/>
                  <a:pt x="16461" y="11575"/>
                </a:cubicBezTo>
              </a:path>
              <a:path w="2775" h="496">
                <a:moveTo>
                  <a:pt x="16488" y="11230"/>
                </a:moveTo>
                <a:cubicBezTo>
                  <a:pt x="16505" y="11186"/>
                  <a:pt x="16518" y="11188"/>
                  <a:pt x="16564" y="11197"/>
                </a:cubicBezTo>
                <a:cubicBezTo>
                  <a:pt x="16620" y="11209"/>
                  <a:pt x="16676" y="11223"/>
                  <a:pt x="16728" y="11246"/>
                </a:cubicBezTo>
                <a:cubicBezTo>
                  <a:pt x="16774" y="11266"/>
                  <a:pt x="16817" y="11295"/>
                  <a:pt x="16808" y="11351"/>
                </a:cubicBezTo>
                <a:cubicBezTo>
                  <a:pt x="16798" y="11415"/>
                  <a:pt x="16731" y="11469"/>
                  <a:pt x="16686" y="11508"/>
                </a:cubicBezTo>
                <a:cubicBezTo>
                  <a:pt x="16636" y="11551"/>
                  <a:pt x="16584" y="11586"/>
                  <a:pt x="16520" y="11603"/>
                </a:cubicBezTo>
                <a:cubicBezTo>
                  <a:pt x="16474" y="11616"/>
                  <a:pt x="16480" y="11617"/>
                  <a:pt x="16472" y="11578"/>
                </a:cubicBezTo>
              </a:path>
              <a:path w="2775" h="496">
                <a:moveTo>
                  <a:pt x="16919" y="11251"/>
                </a:moveTo>
                <a:cubicBezTo>
                  <a:pt x="16965" y="11260"/>
                  <a:pt x="16945" y="11296"/>
                  <a:pt x="16932" y="11341"/>
                </a:cubicBezTo>
                <a:cubicBezTo>
                  <a:pt x="16916" y="11397"/>
                  <a:pt x="16894" y="11451"/>
                  <a:pt x="16886" y="11509"/>
                </a:cubicBezTo>
                <a:cubicBezTo>
                  <a:pt x="16881" y="11542"/>
                  <a:pt x="16884" y="11586"/>
                  <a:pt x="16930" y="11572"/>
                </a:cubicBezTo>
                <a:cubicBezTo>
                  <a:pt x="16985" y="11555"/>
                  <a:pt x="17037" y="11496"/>
                  <a:pt x="17074" y="11455"/>
                </a:cubicBezTo>
                <a:cubicBezTo>
                  <a:pt x="17118" y="11406"/>
                  <a:pt x="17155" y="11349"/>
                  <a:pt x="17185" y="11290"/>
                </a:cubicBezTo>
                <a:cubicBezTo>
                  <a:pt x="17195" y="11268"/>
                  <a:pt x="17197" y="11264"/>
                  <a:pt x="17202" y="11250"/>
                </a:cubicBezTo>
              </a:path>
              <a:path w="2775" h="496">
                <a:moveTo>
                  <a:pt x="17418" y="11223"/>
                </a:moveTo>
                <a:cubicBezTo>
                  <a:pt x="17411" y="11255"/>
                  <a:pt x="17393" y="11279"/>
                  <a:pt x="17377" y="11308"/>
                </a:cubicBezTo>
                <a:cubicBezTo>
                  <a:pt x="17351" y="11356"/>
                  <a:pt x="17329" y="11405"/>
                  <a:pt x="17308" y="11455"/>
                </a:cubicBezTo>
                <a:cubicBezTo>
                  <a:pt x="17297" y="11481"/>
                  <a:pt x="17294" y="11488"/>
                  <a:pt x="17291" y="11506"/>
                </a:cubicBezTo>
              </a:path>
              <a:path w="2775" h="496">
                <a:moveTo>
                  <a:pt x="17707" y="11253"/>
                </a:moveTo>
                <a:cubicBezTo>
                  <a:pt x="17705" y="11210"/>
                  <a:pt x="17660" y="11251"/>
                  <a:pt x="17631" y="11275"/>
                </a:cubicBezTo>
                <a:cubicBezTo>
                  <a:pt x="17573" y="11322"/>
                  <a:pt x="17524" y="11380"/>
                  <a:pt x="17503" y="11453"/>
                </a:cubicBezTo>
                <a:cubicBezTo>
                  <a:pt x="17487" y="11506"/>
                  <a:pt x="17514" y="11532"/>
                  <a:pt x="17566" y="11540"/>
                </a:cubicBezTo>
                <a:cubicBezTo>
                  <a:pt x="17640" y="11551"/>
                  <a:pt x="17706" y="11520"/>
                  <a:pt x="17773" y="11495"/>
                </a:cubicBezTo>
              </a:path>
              <a:path w="2775" h="496">
                <a:moveTo>
                  <a:pt x="18002" y="11325"/>
                </a:moveTo>
                <a:cubicBezTo>
                  <a:pt x="17974" y="11362"/>
                  <a:pt x="17939" y="11400"/>
                  <a:pt x="17920" y="11443"/>
                </a:cubicBezTo>
                <a:cubicBezTo>
                  <a:pt x="17910" y="11467"/>
                  <a:pt x="17897" y="11510"/>
                  <a:pt x="17931" y="11520"/>
                </a:cubicBezTo>
                <a:cubicBezTo>
                  <a:pt x="17974" y="11532"/>
                  <a:pt x="18028" y="11508"/>
                  <a:pt x="18067" y="11492"/>
                </a:cubicBezTo>
                <a:cubicBezTo>
                  <a:pt x="18111" y="11473"/>
                  <a:pt x="18145" y="11450"/>
                  <a:pt x="18180" y="11418"/>
                </a:cubicBezTo>
              </a:path>
              <a:path w="2775" h="496">
                <a:moveTo>
                  <a:pt x="17976" y="11354"/>
                </a:moveTo>
                <a:cubicBezTo>
                  <a:pt x="17971" y="11360"/>
                  <a:pt x="17967" y="11366"/>
                  <a:pt x="17962" y="11372"/>
                </a:cubicBezTo>
                <a:cubicBezTo>
                  <a:pt x="18006" y="11385"/>
                  <a:pt x="18037" y="11377"/>
                  <a:pt x="18083" y="11363"/>
                </a:cubicBezTo>
                <a:cubicBezTo>
                  <a:pt x="18160" y="11339"/>
                  <a:pt x="18239" y="11310"/>
                  <a:pt x="18301" y="11259"/>
                </a:cubicBezTo>
              </a:path>
              <a:path w="2775" h="496">
                <a:moveTo>
                  <a:pt x="18000" y="11206"/>
                </a:moveTo>
                <a:cubicBezTo>
                  <a:pt x="17971" y="11242"/>
                  <a:pt x="18082" y="11211"/>
                  <a:pt x="18114" y="11208"/>
                </a:cubicBezTo>
                <a:cubicBezTo>
                  <a:pt x="18217" y="11197"/>
                  <a:pt x="18321" y="11189"/>
                  <a:pt x="18424" y="11179"/>
                </a:cubicBezTo>
                <a:cubicBezTo>
                  <a:pt x="18499" y="11172"/>
                  <a:pt x="18575" y="11163"/>
                  <a:pt x="18650" y="11155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432160" y="3778200"/>
            <a:ext cx="2973240" cy="476280"/>
          </a:xfrm>
          <a:custGeom>
            <a:avLst/>
            <a:gdLst/>
            <a:ahLst/>
            <a:rect l="l" t="t" r="r" b="b"/>
            <a:pathLst>
              <a:path w="8260" h="1323">
                <a:moveTo>
                  <a:pt x="8239" y="11811"/>
                </a:moveTo>
                <a:cubicBezTo>
                  <a:pt x="10050" y="11832"/>
                  <a:pt x="11890" y="11842"/>
                  <a:pt x="13696" y="11695"/>
                </a:cubicBezTo>
                <a:cubicBezTo>
                  <a:pt x="14004" y="11670"/>
                  <a:pt x="14696" y="11694"/>
                  <a:pt x="14938" y="11446"/>
                </a:cubicBezTo>
                <a:cubicBezTo>
                  <a:pt x="15003" y="11379"/>
                  <a:pt x="14972" y="11330"/>
                  <a:pt x="15008" y="11279"/>
                </a:cubicBezTo>
                <a:cubicBezTo>
                  <a:pt x="14853" y="11131"/>
                  <a:pt x="14735" y="11040"/>
                  <a:pt x="14524" y="10955"/>
                </a:cubicBezTo>
                <a:cubicBezTo>
                  <a:pt x="13380" y="10495"/>
                  <a:pt x="11997" y="10489"/>
                  <a:pt x="10786" y="10497"/>
                </a:cubicBezTo>
                <a:cubicBezTo>
                  <a:pt x="9592" y="10505"/>
                  <a:pt x="8232" y="10539"/>
                  <a:pt x="7115" y="11013"/>
                </a:cubicBezTo>
                <a:cubicBezTo>
                  <a:pt x="6931" y="11091"/>
                  <a:pt x="6878" y="11175"/>
                  <a:pt x="6756" y="11301"/>
                </a:cubicBezTo>
                <a:cubicBezTo>
                  <a:pt x="6871" y="11403"/>
                  <a:pt x="6905" y="11460"/>
                  <a:pt x="7084" y="11511"/>
                </a:cubicBezTo>
                <a:cubicBezTo>
                  <a:pt x="7559" y="11645"/>
                  <a:pt x="8082" y="11654"/>
                  <a:pt x="8571" y="1169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tensibility overview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4" name=""/>
          <p:cNvGraphicFramePr/>
          <p:nvPr/>
        </p:nvGraphicFramePr>
        <p:xfrm>
          <a:off x="528480" y="1487520"/>
          <a:ext cx="8218800" cy="410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8480" y="1487520"/>
                    <a:ext cx="8218800" cy="41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ngineering challeng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ger parsing and code assi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gration with the JD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ava model is not inherently extensi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ructure searches don’t work for crosscutt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keeping up with the platfor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clipse vers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dk 1.5 generics and metada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hat’s next?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inheritan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bstract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dynamic info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pect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flow call graph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avigato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0" name=""/>
          <p:cNvGraphicFramePr/>
          <p:nvPr/>
        </p:nvGraphicFramePr>
        <p:xfrm>
          <a:off x="5638680" y="1157400"/>
          <a:ext cx="3048120" cy="150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1157400"/>
                    <a:ext cx="3048120" cy="15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2" name=""/>
          <p:cNvGraphicFramePr/>
          <p:nvPr/>
        </p:nvGraphicFramePr>
        <p:xfrm>
          <a:off x="4724280" y="2819520"/>
          <a:ext cx="3225960" cy="190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2819520"/>
                    <a:ext cx="3225960" cy="19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4" name=""/>
          <p:cNvGraphicFramePr/>
          <p:nvPr/>
        </p:nvGraphicFramePr>
        <p:xfrm>
          <a:off x="4470480" y="4994280"/>
          <a:ext cx="2921040" cy="1482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70480" y="4994280"/>
                    <a:ext cx="2921040" cy="14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6" name=""/>
          <p:cNvSpPr/>
          <p:nvPr/>
        </p:nvSpPr>
        <p:spPr>
          <a:xfrm>
            <a:off x="6126120" y="5162400"/>
            <a:ext cx="284040" cy="752760"/>
          </a:xfrm>
          <a:custGeom>
            <a:avLst/>
            <a:gdLst/>
            <a:ahLst/>
            <a:rect l="l" t="t" r="r" b="b"/>
            <a:pathLst>
              <a:path w="789" h="2090">
                <a:moveTo>
                  <a:pt x="17285" y="16410"/>
                </a:moveTo>
                <a:cubicBezTo>
                  <a:pt x="17351" y="16427"/>
                  <a:pt x="17375" y="16422"/>
                  <a:pt x="17422" y="16363"/>
                </a:cubicBezTo>
                <a:cubicBezTo>
                  <a:pt x="17446" y="16333"/>
                  <a:pt x="17466" y="16293"/>
                  <a:pt x="17476" y="16256"/>
                </a:cubicBezTo>
                <a:cubicBezTo>
                  <a:pt x="17495" y="16188"/>
                  <a:pt x="17457" y="16136"/>
                  <a:pt x="17443" y="16073"/>
                </a:cubicBezTo>
                <a:cubicBezTo>
                  <a:pt x="17418" y="15962"/>
                  <a:pt x="17470" y="15879"/>
                  <a:pt x="17566" y="15823"/>
                </a:cubicBezTo>
                <a:cubicBezTo>
                  <a:pt x="17628" y="15787"/>
                  <a:pt x="17697" y="15768"/>
                  <a:pt x="17768" y="15763"/>
                </a:cubicBezTo>
                <a:cubicBezTo>
                  <a:pt x="17787" y="15763"/>
                  <a:pt x="17792" y="15763"/>
                  <a:pt x="17804" y="15764"/>
                </a:cubicBezTo>
                <a:cubicBezTo>
                  <a:pt x="17749" y="15768"/>
                  <a:pt x="17703" y="15771"/>
                  <a:pt x="17648" y="15751"/>
                </a:cubicBezTo>
                <a:cubicBezTo>
                  <a:pt x="17564" y="15719"/>
                  <a:pt x="17508" y="15656"/>
                  <a:pt x="17498" y="15565"/>
                </a:cubicBezTo>
                <a:cubicBezTo>
                  <a:pt x="17473" y="15347"/>
                  <a:pt x="17622" y="15135"/>
                  <a:pt x="17702" y="14943"/>
                </a:cubicBezTo>
                <a:cubicBezTo>
                  <a:pt x="17753" y="14820"/>
                  <a:pt x="17812" y="14651"/>
                  <a:pt x="17745" y="14523"/>
                </a:cubicBezTo>
                <a:cubicBezTo>
                  <a:pt x="17680" y="14398"/>
                  <a:pt x="17513" y="14366"/>
                  <a:pt x="17387" y="14351"/>
                </a:cubicBezTo>
                <a:cubicBezTo>
                  <a:pt x="17303" y="14341"/>
                  <a:pt x="17217" y="14336"/>
                  <a:pt x="17132" y="14343"/>
                </a:cubicBezTo>
                <a:cubicBezTo>
                  <a:pt x="17092" y="14346"/>
                  <a:pt x="17055" y="14354"/>
                  <a:pt x="17016" y="143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010120" y="4968720"/>
            <a:ext cx="2360520" cy="1521000"/>
          </a:xfrm>
          <a:custGeom>
            <a:avLst/>
            <a:gdLst/>
            <a:ahLst/>
            <a:rect l="l" t="t" r="r" b="b"/>
            <a:pathLst>
              <a:path w="6559" h="4225">
                <a:moveTo>
                  <a:pt x="14102" y="14105"/>
                </a:moveTo>
                <a:cubicBezTo>
                  <a:pt x="14386" y="14042"/>
                  <a:pt x="14667" y="13969"/>
                  <a:pt x="14954" y="13920"/>
                </a:cubicBezTo>
                <a:cubicBezTo>
                  <a:pt x="16118" y="13720"/>
                  <a:pt x="17380" y="13753"/>
                  <a:pt x="18540" y="13952"/>
                </a:cubicBezTo>
                <a:cubicBezTo>
                  <a:pt x="19144" y="14056"/>
                  <a:pt x="19767" y="14169"/>
                  <a:pt x="20346" y="14374"/>
                </a:cubicBezTo>
                <a:cubicBezTo>
                  <a:pt x="20362" y="14381"/>
                  <a:pt x="20368" y="14384"/>
                  <a:pt x="20379" y="14388"/>
                </a:cubicBezTo>
              </a:path>
              <a:path w="6559" h="4225">
                <a:moveTo>
                  <a:pt x="14250" y="13845"/>
                </a:moveTo>
                <a:cubicBezTo>
                  <a:pt x="14276" y="13873"/>
                  <a:pt x="14253" y="13889"/>
                  <a:pt x="14228" y="13918"/>
                </a:cubicBezTo>
                <a:cubicBezTo>
                  <a:pt x="14202" y="13949"/>
                  <a:pt x="14171" y="13976"/>
                  <a:pt x="14142" y="14004"/>
                </a:cubicBezTo>
                <a:cubicBezTo>
                  <a:pt x="14108" y="14037"/>
                  <a:pt x="14073" y="14067"/>
                  <a:pt x="14035" y="14094"/>
                </a:cubicBezTo>
                <a:cubicBezTo>
                  <a:pt x="14007" y="14114"/>
                  <a:pt x="13977" y="14131"/>
                  <a:pt x="13951" y="14153"/>
                </a:cubicBezTo>
                <a:cubicBezTo>
                  <a:pt x="13934" y="14168"/>
                  <a:pt x="13926" y="14179"/>
                  <a:pt x="13917" y="14199"/>
                </a:cubicBezTo>
                <a:cubicBezTo>
                  <a:pt x="13963" y="14198"/>
                  <a:pt x="14008" y="14206"/>
                  <a:pt x="14054" y="14213"/>
                </a:cubicBezTo>
                <a:cubicBezTo>
                  <a:pt x="14116" y="14222"/>
                  <a:pt x="14178" y="14233"/>
                  <a:pt x="14240" y="14243"/>
                </a:cubicBezTo>
                <a:cubicBezTo>
                  <a:pt x="14283" y="14250"/>
                  <a:pt x="14326" y="14253"/>
                  <a:pt x="14369" y="14255"/>
                </a:cubicBezTo>
              </a:path>
              <a:path w="6559" h="4225">
                <a:moveTo>
                  <a:pt x="19891" y="18001"/>
                </a:moveTo>
                <a:cubicBezTo>
                  <a:pt x="19926" y="18016"/>
                  <a:pt x="19929" y="18030"/>
                  <a:pt x="19974" y="18021"/>
                </a:cubicBezTo>
                <a:cubicBezTo>
                  <a:pt x="20084" y="17998"/>
                  <a:pt x="20181" y="17895"/>
                  <a:pt x="20222" y="17795"/>
                </a:cubicBezTo>
                <a:cubicBezTo>
                  <a:pt x="20241" y="17750"/>
                  <a:pt x="20249" y="17703"/>
                  <a:pt x="20242" y="17655"/>
                </a:cubicBezTo>
                <a:cubicBezTo>
                  <a:pt x="20235" y="17607"/>
                  <a:pt x="20210" y="17565"/>
                  <a:pt x="20188" y="17522"/>
                </a:cubicBezTo>
                <a:cubicBezTo>
                  <a:pt x="20155" y="17457"/>
                  <a:pt x="20139" y="17409"/>
                  <a:pt x="20194" y="17349"/>
                </a:cubicBezTo>
                <a:cubicBezTo>
                  <a:pt x="20263" y="17274"/>
                  <a:pt x="20382" y="17281"/>
                  <a:pt x="20475" y="17279"/>
                </a:cubicBezTo>
                <a:cubicBezTo>
                  <a:pt x="20401" y="17277"/>
                  <a:pt x="20362" y="17267"/>
                  <a:pt x="20322" y="17195"/>
                </a:cubicBezTo>
                <a:cubicBezTo>
                  <a:pt x="20256" y="17077"/>
                  <a:pt x="20270" y="16938"/>
                  <a:pt x="20320" y="16817"/>
                </a:cubicBezTo>
                <a:cubicBezTo>
                  <a:pt x="20357" y="16727"/>
                  <a:pt x="20451" y="16614"/>
                  <a:pt x="20452" y="16514"/>
                </a:cubicBezTo>
                <a:cubicBezTo>
                  <a:pt x="20453" y="16446"/>
                  <a:pt x="20365" y="16407"/>
                  <a:pt x="20313" y="16387"/>
                </a:cubicBezTo>
                <a:cubicBezTo>
                  <a:pt x="20279" y="16374"/>
                  <a:pt x="20242" y="16365"/>
                  <a:pt x="20206" y="16359"/>
                </a:cubicBezTo>
                <a:cubicBezTo>
                  <a:pt x="20184" y="16356"/>
                  <a:pt x="20163" y="16357"/>
                  <a:pt x="20141" y="163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848720" y="3733920"/>
            <a:ext cx="771480" cy="909360"/>
          </a:xfrm>
          <a:custGeom>
            <a:avLst/>
            <a:gdLst/>
            <a:ahLst/>
            <a:rect l="l" t="t" r="r" b="b"/>
            <a:pathLst>
              <a:path w="2141" h="2525">
                <a:moveTo>
                  <a:pt x="22712" y="12860"/>
                </a:moveTo>
                <a:cubicBezTo>
                  <a:pt x="22710" y="12875"/>
                  <a:pt x="22710" y="12880"/>
                  <a:pt x="22707" y="12890"/>
                </a:cubicBezTo>
                <a:cubicBezTo>
                  <a:pt x="22740" y="12887"/>
                  <a:pt x="22755" y="12895"/>
                  <a:pt x="22790" y="12876"/>
                </a:cubicBezTo>
                <a:cubicBezTo>
                  <a:pt x="22921" y="12807"/>
                  <a:pt x="22980" y="12688"/>
                  <a:pt x="22982" y="12544"/>
                </a:cubicBezTo>
                <a:cubicBezTo>
                  <a:pt x="22985" y="12350"/>
                  <a:pt x="22915" y="12177"/>
                  <a:pt x="22972" y="11983"/>
                </a:cubicBezTo>
                <a:cubicBezTo>
                  <a:pt x="23021" y="11818"/>
                  <a:pt x="23169" y="11739"/>
                  <a:pt x="23327" y="11701"/>
                </a:cubicBezTo>
                <a:cubicBezTo>
                  <a:pt x="23361" y="11693"/>
                  <a:pt x="23396" y="11688"/>
                  <a:pt x="23430" y="11681"/>
                </a:cubicBezTo>
                <a:cubicBezTo>
                  <a:pt x="23216" y="11526"/>
                  <a:pt x="23154" y="11334"/>
                  <a:pt x="23186" y="11070"/>
                </a:cubicBezTo>
                <a:cubicBezTo>
                  <a:pt x="23205" y="10909"/>
                  <a:pt x="23247" y="10745"/>
                  <a:pt x="23153" y="10599"/>
                </a:cubicBezTo>
                <a:cubicBezTo>
                  <a:pt x="23052" y="10443"/>
                  <a:pt x="22844" y="10401"/>
                  <a:pt x="22672" y="10382"/>
                </a:cubicBezTo>
                <a:cubicBezTo>
                  <a:pt x="22620" y="10376"/>
                  <a:pt x="22570" y="10378"/>
                  <a:pt x="22518" y="10378"/>
                </a:cubicBezTo>
              </a:path>
              <a:path w="2141" h="2525">
                <a:moveTo>
                  <a:pt x="23618" y="11074"/>
                </a:moveTo>
                <a:cubicBezTo>
                  <a:pt x="23588" y="11086"/>
                  <a:pt x="23566" y="11098"/>
                  <a:pt x="23544" y="11122"/>
                </a:cubicBezTo>
                <a:cubicBezTo>
                  <a:pt x="23493" y="11178"/>
                  <a:pt x="23455" y="11250"/>
                  <a:pt x="23438" y="11324"/>
                </a:cubicBezTo>
                <a:cubicBezTo>
                  <a:pt x="23430" y="11360"/>
                  <a:pt x="23422" y="11405"/>
                  <a:pt x="23464" y="11422"/>
                </a:cubicBezTo>
                <a:cubicBezTo>
                  <a:pt x="23490" y="11432"/>
                  <a:pt x="23531" y="11395"/>
                  <a:pt x="23548" y="11381"/>
                </a:cubicBezTo>
                <a:cubicBezTo>
                  <a:pt x="23555" y="11374"/>
                  <a:pt x="23563" y="11368"/>
                  <a:pt x="23570" y="11361"/>
                </a:cubicBezTo>
              </a:path>
              <a:path w="2141" h="2525">
                <a:moveTo>
                  <a:pt x="23635" y="11425"/>
                </a:moveTo>
                <a:cubicBezTo>
                  <a:pt x="23678" y="11412"/>
                  <a:pt x="23701" y="11376"/>
                  <a:pt x="23732" y="11339"/>
                </a:cubicBezTo>
                <a:cubicBezTo>
                  <a:pt x="23773" y="11290"/>
                  <a:pt x="23812" y="11239"/>
                  <a:pt x="23851" y="11188"/>
                </a:cubicBezTo>
                <a:cubicBezTo>
                  <a:pt x="23871" y="11162"/>
                  <a:pt x="23891" y="11136"/>
                  <a:pt x="23912" y="11110"/>
                </a:cubicBezTo>
                <a:cubicBezTo>
                  <a:pt x="23921" y="11158"/>
                  <a:pt x="23909" y="11197"/>
                  <a:pt x="23898" y="11246"/>
                </a:cubicBezTo>
                <a:cubicBezTo>
                  <a:pt x="23886" y="11301"/>
                  <a:pt x="23877" y="11355"/>
                  <a:pt x="23869" y="11410"/>
                </a:cubicBezTo>
                <a:cubicBezTo>
                  <a:pt x="23865" y="11430"/>
                  <a:pt x="23864" y="11435"/>
                  <a:pt x="23863" y="11448"/>
                </a:cubicBezTo>
              </a:path>
              <a:path w="2141" h="2525">
                <a:moveTo>
                  <a:pt x="23768" y="11310"/>
                </a:moveTo>
                <a:cubicBezTo>
                  <a:pt x="23797" y="11318"/>
                  <a:pt x="23819" y="11318"/>
                  <a:pt x="23849" y="11309"/>
                </a:cubicBezTo>
                <a:cubicBezTo>
                  <a:pt x="23875" y="11301"/>
                  <a:pt x="23901" y="11290"/>
                  <a:pt x="23927" y="11281"/>
                </a:cubicBezTo>
              </a:path>
              <a:path w="2141" h="2525">
                <a:moveTo>
                  <a:pt x="24109" y="11232"/>
                </a:moveTo>
                <a:cubicBezTo>
                  <a:pt x="24130" y="11218"/>
                  <a:pt x="24135" y="11214"/>
                  <a:pt x="24148" y="11206"/>
                </a:cubicBezTo>
                <a:cubicBezTo>
                  <a:pt x="24127" y="11238"/>
                  <a:pt x="24108" y="11270"/>
                  <a:pt x="24090" y="11304"/>
                </a:cubicBezTo>
                <a:cubicBezTo>
                  <a:pt x="24067" y="11347"/>
                  <a:pt x="24042" y="11388"/>
                  <a:pt x="24025" y="11434"/>
                </a:cubicBezTo>
                <a:cubicBezTo>
                  <a:pt x="24019" y="11453"/>
                  <a:pt x="24017" y="11460"/>
                  <a:pt x="24022" y="11474"/>
                </a:cubicBezTo>
                <a:cubicBezTo>
                  <a:pt x="24061" y="11470"/>
                  <a:pt x="24096" y="11459"/>
                  <a:pt x="24131" y="11439"/>
                </a:cubicBezTo>
                <a:cubicBezTo>
                  <a:pt x="24183" y="11410"/>
                  <a:pt x="24229" y="11369"/>
                  <a:pt x="24273" y="11329"/>
                </a:cubicBezTo>
              </a:path>
              <a:path w="2141" h="2525">
                <a:moveTo>
                  <a:pt x="24358" y="11199"/>
                </a:moveTo>
                <a:cubicBezTo>
                  <a:pt x="24392" y="11222"/>
                  <a:pt x="24378" y="11237"/>
                  <a:pt x="24359" y="11271"/>
                </a:cubicBezTo>
                <a:cubicBezTo>
                  <a:pt x="24339" y="11308"/>
                  <a:pt x="24315" y="11342"/>
                  <a:pt x="24294" y="11378"/>
                </a:cubicBezTo>
                <a:cubicBezTo>
                  <a:pt x="24287" y="11390"/>
                  <a:pt x="24246" y="11452"/>
                  <a:pt x="24265" y="11467"/>
                </a:cubicBezTo>
                <a:cubicBezTo>
                  <a:pt x="24297" y="11493"/>
                  <a:pt x="24357" y="11471"/>
                  <a:pt x="24390" y="11459"/>
                </a:cubicBezTo>
                <a:cubicBezTo>
                  <a:pt x="24427" y="11445"/>
                  <a:pt x="24459" y="11423"/>
                  <a:pt x="24489" y="11398"/>
                </a:cubicBezTo>
              </a:path>
              <a:path w="2141" h="2525">
                <a:moveTo>
                  <a:pt x="23374" y="12019"/>
                </a:moveTo>
                <a:cubicBezTo>
                  <a:pt x="23374" y="12012"/>
                  <a:pt x="23375" y="12004"/>
                  <a:pt x="23375" y="11997"/>
                </a:cubicBezTo>
                <a:cubicBezTo>
                  <a:pt x="23333" y="11999"/>
                  <a:pt x="23305" y="12019"/>
                  <a:pt x="23272" y="12047"/>
                </a:cubicBezTo>
                <a:cubicBezTo>
                  <a:pt x="23205" y="12105"/>
                  <a:pt x="23153" y="12180"/>
                  <a:pt x="23125" y="12263"/>
                </a:cubicBezTo>
                <a:cubicBezTo>
                  <a:pt x="23111" y="12304"/>
                  <a:pt x="23096" y="12368"/>
                  <a:pt x="23132" y="12404"/>
                </a:cubicBezTo>
                <a:cubicBezTo>
                  <a:pt x="23162" y="12434"/>
                  <a:pt x="23215" y="12416"/>
                  <a:pt x="23244" y="12397"/>
                </a:cubicBezTo>
                <a:cubicBezTo>
                  <a:pt x="23282" y="12373"/>
                  <a:pt x="23348" y="12297"/>
                  <a:pt x="23325" y="12246"/>
                </a:cubicBezTo>
                <a:cubicBezTo>
                  <a:pt x="23320" y="12239"/>
                  <a:pt x="23314" y="12231"/>
                  <a:pt x="23309" y="12224"/>
                </a:cubicBezTo>
                <a:cubicBezTo>
                  <a:pt x="23341" y="12249"/>
                  <a:pt x="23358" y="12247"/>
                  <a:pt x="23399" y="12235"/>
                </a:cubicBezTo>
                <a:cubicBezTo>
                  <a:pt x="23427" y="12227"/>
                  <a:pt x="23453" y="12215"/>
                  <a:pt x="23480" y="12202"/>
                </a:cubicBezTo>
              </a:path>
              <a:path w="2141" h="2525">
                <a:moveTo>
                  <a:pt x="23527" y="12115"/>
                </a:moveTo>
                <a:cubicBezTo>
                  <a:pt x="23537" y="12161"/>
                  <a:pt x="23527" y="12184"/>
                  <a:pt x="23512" y="12231"/>
                </a:cubicBezTo>
                <a:cubicBezTo>
                  <a:pt x="23499" y="12271"/>
                  <a:pt x="23468" y="12346"/>
                  <a:pt x="23480" y="12389"/>
                </a:cubicBezTo>
                <a:cubicBezTo>
                  <a:pt x="23484" y="12394"/>
                  <a:pt x="23487" y="12400"/>
                  <a:pt x="23491" y="12405"/>
                </a:cubicBezTo>
                <a:cubicBezTo>
                  <a:pt x="23514" y="12369"/>
                  <a:pt x="23524" y="12338"/>
                  <a:pt x="23527" y="12294"/>
                </a:cubicBezTo>
                <a:cubicBezTo>
                  <a:pt x="23530" y="12252"/>
                  <a:pt x="23522" y="12215"/>
                  <a:pt x="23512" y="12175"/>
                </a:cubicBezTo>
                <a:cubicBezTo>
                  <a:pt x="23503" y="12141"/>
                  <a:pt x="23497" y="12121"/>
                  <a:pt x="23535" y="12109"/>
                </a:cubicBezTo>
                <a:cubicBezTo>
                  <a:pt x="23590" y="12091"/>
                  <a:pt x="23660" y="12088"/>
                  <a:pt x="23717" y="12083"/>
                </a:cubicBezTo>
                <a:cubicBezTo>
                  <a:pt x="23739" y="12082"/>
                  <a:pt x="23744" y="12082"/>
                  <a:pt x="23758" y="12082"/>
                </a:cubicBezTo>
                <a:cubicBezTo>
                  <a:pt x="23742" y="12115"/>
                  <a:pt x="23713" y="12128"/>
                  <a:pt x="23684" y="12152"/>
                </a:cubicBezTo>
                <a:cubicBezTo>
                  <a:pt x="23638" y="12189"/>
                  <a:pt x="23587" y="12230"/>
                  <a:pt x="23576" y="12290"/>
                </a:cubicBezTo>
                <a:cubicBezTo>
                  <a:pt x="23619" y="12315"/>
                  <a:pt x="23637" y="12313"/>
                  <a:pt x="23686" y="12299"/>
                </a:cubicBezTo>
                <a:cubicBezTo>
                  <a:pt x="23716" y="12291"/>
                  <a:pt x="23746" y="12280"/>
                  <a:pt x="23775" y="12269"/>
                </a:cubicBezTo>
              </a:path>
              <a:path w="2141" h="2525">
                <a:moveTo>
                  <a:pt x="23747" y="12431"/>
                </a:moveTo>
                <a:cubicBezTo>
                  <a:pt x="23790" y="12392"/>
                  <a:pt x="23811" y="12349"/>
                  <a:pt x="23840" y="12299"/>
                </a:cubicBezTo>
                <a:cubicBezTo>
                  <a:pt x="23867" y="12253"/>
                  <a:pt x="23894" y="12206"/>
                  <a:pt x="23922" y="12160"/>
                </a:cubicBezTo>
                <a:cubicBezTo>
                  <a:pt x="23938" y="12134"/>
                  <a:pt x="23952" y="12114"/>
                  <a:pt x="23972" y="12091"/>
                </a:cubicBezTo>
                <a:cubicBezTo>
                  <a:pt x="23976" y="12125"/>
                  <a:pt x="23969" y="12155"/>
                  <a:pt x="23963" y="12189"/>
                </a:cubicBezTo>
                <a:cubicBezTo>
                  <a:pt x="23954" y="12242"/>
                  <a:pt x="23948" y="12296"/>
                  <a:pt x="23940" y="12349"/>
                </a:cubicBezTo>
                <a:cubicBezTo>
                  <a:pt x="23937" y="12367"/>
                  <a:pt x="23936" y="12372"/>
                  <a:pt x="23932" y="12383"/>
                </a:cubicBezTo>
              </a:path>
              <a:path w="2141" h="2525">
                <a:moveTo>
                  <a:pt x="23859" y="12319"/>
                </a:moveTo>
                <a:cubicBezTo>
                  <a:pt x="23889" y="12309"/>
                  <a:pt x="23915" y="12304"/>
                  <a:pt x="23946" y="12299"/>
                </a:cubicBezTo>
                <a:cubicBezTo>
                  <a:pt x="23973" y="12294"/>
                  <a:pt x="24000" y="12288"/>
                  <a:pt x="24026" y="12281"/>
                </a:cubicBezTo>
              </a:path>
              <a:path w="2141" h="2525">
                <a:moveTo>
                  <a:pt x="24184" y="12163"/>
                </a:moveTo>
                <a:cubicBezTo>
                  <a:pt x="24183" y="12193"/>
                  <a:pt x="24179" y="12224"/>
                  <a:pt x="24170" y="12253"/>
                </a:cubicBezTo>
                <a:cubicBezTo>
                  <a:pt x="24157" y="12297"/>
                  <a:pt x="24145" y="12338"/>
                  <a:pt x="24137" y="12383"/>
                </a:cubicBezTo>
                <a:cubicBezTo>
                  <a:pt x="24133" y="12402"/>
                  <a:pt x="24131" y="12407"/>
                  <a:pt x="24132" y="12419"/>
                </a:cubicBezTo>
              </a:path>
              <a:path w="2141" h="2525">
                <a:moveTo>
                  <a:pt x="24087" y="12154"/>
                </a:moveTo>
                <a:cubicBezTo>
                  <a:pt x="24092" y="12117"/>
                  <a:pt x="24114" y="12112"/>
                  <a:pt x="24156" y="12105"/>
                </a:cubicBezTo>
                <a:cubicBezTo>
                  <a:pt x="24214" y="12095"/>
                  <a:pt x="24293" y="12091"/>
                  <a:pt x="24346" y="12121"/>
                </a:cubicBezTo>
                <a:cubicBezTo>
                  <a:pt x="24371" y="12135"/>
                  <a:pt x="24376" y="12161"/>
                  <a:pt x="24362" y="12186"/>
                </a:cubicBezTo>
                <a:cubicBezTo>
                  <a:pt x="24347" y="12213"/>
                  <a:pt x="24315" y="12235"/>
                  <a:pt x="24291" y="12254"/>
                </a:cubicBezTo>
                <a:cubicBezTo>
                  <a:pt x="24265" y="12274"/>
                  <a:pt x="24248" y="12280"/>
                  <a:pt x="24229" y="12258"/>
                </a:cubicBezTo>
              </a:path>
              <a:path w="2141" h="2525">
                <a:moveTo>
                  <a:pt x="24359" y="12126"/>
                </a:moveTo>
                <a:cubicBezTo>
                  <a:pt x="24377" y="12165"/>
                  <a:pt x="24375" y="12177"/>
                  <a:pt x="24359" y="12218"/>
                </a:cubicBezTo>
                <a:cubicBezTo>
                  <a:pt x="24340" y="12264"/>
                  <a:pt x="24315" y="12308"/>
                  <a:pt x="24298" y="12355"/>
                </a:cubicBezTo>
                <a:cubicBezTo>
                  <a:pt x="24292" y="12371"/>
                  <a:pt x="24263" y="12419"/>
                  <a:pt x="24300" y="12363"/>
                </a:cubicBezTo>
              </a:path>
              <a:path w="2141" h="2525">
                <a:moveTo>
                  <a:pt x="24379" y="12219"/>
                </a:moveTo>
                <a:cubicBezTo>
                  <a:pt x="24394" y="12244"/>
                  <a:pt x="24403" y="12248"/>
                  <a:pt x="24435" y="12249"/>
                </a:cubicBezTo>
                <a:cubicBezTo>
                  <a:pt x="24469" y="12250"/>
                  <a:pt x="24483" y="12235"/>
                  <a:pt x="24510" y="12216"/>
                </a:cubicBezTo>
              </a:path>
              <a:path w="2141" h="2525">
                <a:moveTo>
                  <a:pt x="24640" y="12005"/>
                </a:moveTo>
                <a:cubicBezTo>
                  <a:pt x="24669" y="12012"/>
                  <a:pt x="24634" y="12052"/>
                  <a:pt x="24618" y="12091"/>
                </a:cubicBezTo>
                <a:cubicBezTo>
                  <a:pt x="24587" y="12169"/>
                  <a:pt x="24563" y="12251"/>
                  <a:pt x="24544" y="12333"/>
                </a:cubicBezTo>
                <a:cubicBezTo>
                  <a:pt x="24510" y="12479"/>
                  <a:pt x="24480" y="12627"/>
                  <a:pt x="24459" y="12776"/>
                </a:cubicBezTo>
                <a:cubicBezTo>
                  <a:pt x="24456" y="12802"/>
                  <a:pt x="24452" y="12829"/>
                  <a:pt x="24449" y="128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047000" y="2666880"/>
            <a:ext cx="1563480" cy="812880"/>
          </a:xfrm>
          <a:custGeom>
            <a:avLst/>
            <a:gdLst/>
            <a:ahLst/>
            <a:rect l="l" t="t" r="r" b="b"/>
            <a:pathLst>
              <a:path w="4340" h="2256">
                <a:moveTo>
                  <a:pt x="19867" y="9551"/>
                </a:moveTo>
                <a:cubicBezTo>
                  <a:pt x="19872" y="9541"/>
                  <a:pt x="19890" y="9513"/>
                  <a:pt x="19900" y="9490"/>
                </a:cubicBezTo>
                <a:cubicBezTo>
                  <a:pt x="20017" y="9217"/>
                  <a:pt x="20175" y="8956"/>
                  <a:pt x="20352" y="8718"/>
                </a:cubicBezTo>
                <a:cubicBezTo>
                  <a:pt x="20517" y="8496"/>
                  <a:pt x="20699" y="8308"/>
                  <a:pt x="20909" y="8129"/>
                </a:cubicBezTo>
                <a:cubicBezTo>
                  <a:pt x="21127" y="7943"/>
                  <a:pt x="21397" y="7748"/>
                  <a:pt x="21676" y="7665"/>
                </a:cubicBezTo>
                <a:cubicBezTo>
                  <a:pt x="21729" y="7649"/>
                  <a:pt x="21782" y="7637"/>
                  <a:pt x="21835" y="7622"/>
                </a:cubicBezTo>
              </a:path>
              <a:path w="4340" h="2256">
                <a:moveTo>
                  <a:pt x="19762" y="9313"/>
                </a:moveTo>
                <a:cubicBezTo>
                  <a:pt x="19776" y="9301"/>
                  <a:pt x="19781" y="9298"/>
                  <a:pt x="19781" y="9285"/>
                </a:cubicBezTo>
                <a:cubicBezTo>
                  <a:pt x="19778" y="9314"/>
                  <a:pt x="19776" y="9344"/>
                  <a:pt x="19775" y="9374"/>
                </a:cubicBezTo>
                <a:cubicBezTo>
                  <a:pt x="19774" y="9421"/>
                  <a:pt x="19775" y="9468"/>
                  <a:pt x="19775" y="9515"/>
                </a:cubicBezTo>
                <a:cubicBezTo>
                  <a:pt x="19775" y="9560"/>
                  <a:pt x="19778" y="9606"/>
                  <a:pt x="19783" y="9651"/>
                </a:cubicBezTo>
                <a:cubicBezTo>
                  <a:pt x="19786" y="9679"/>
                  <a:pt x="19791" y="9707"/>
                  <a:pt x="19797" y="9735"/>
                </a:cubicBezTo>
                <a:cubicBezTo>
                  <a:pt x="19802" y="9755"/>
                  <a:pt x="19803" y="9761"/>
                  <a:pt x="19806" y="9774"/>
                </a:cubicBezTo>
                <a:cubicBezTo>
                  <a:pt x="19826" y="9720"/>
                  <a:pt x="19851" y="9680"/>
                  <a:pt x="19891" y="9637"/>
                </a:cubicBezTo>
                <a:cubicBezTo>
                  <a:pt x="19977" y="9546"/>
                  <a:pt x="20080" y="9468"/>
                  <a:pt x="20177" y="9388"/>
                </a:cubicBezTo>
                <a:cubicBezTo>
                  <a:pt x="20248" y="9331"/>
                  <a:pt x="20271" y="9313"/>
                  <a:pt x="20317" y="9274"/>
                </a:cubicBezTo>
              </a:path>
              <a:path w="4340" h="2256">
                <a:moveTo>
                  <a:pt x="22164" y="7519"/>
                </a:moveTo>
                <a:cubicBezTo>
                  <a:pt x="22124" y="7550"/>
                  <a:pt x="22092" y="7585"/>
                  <a:pt x="22066" y="7629"/>
                </a:cubicBezTo>
                <a:cubicBezTo>
                  <a:pt x="22044" y="7667"/>
                  <a:pt x="22029" y="7708"/>
                  <a:pt x="22028" y="7752"/>
                </a:cubicBezTo>
                <a:cubicBezTo>
                  <a:pt x="22027" y="7781"/>
                  <a:pt x="22037" y="7801"/>
                  <a:pt x="22070" y="7797"/>
                </a:cubicBezTo>
                <a:cubicBezTo>
                  <a:pt x="22107" y="7792"/>
                  <a:pt x="22140" y="7757"/>
                  <a:pt x="22168" y="7735"/>
                </a:cubicBezTo>
              </a:path>
              <a:path w="4340" h="2256">
                <a:moveTo>
                  <a:pt x="22485" y="7571"/>
                </a:moveTo>
                <a:cubicBezTo>
                  <a:pt x="22454" y="7578"/>
                  <a:pt x="22437" y="7601"/>
                  <a:pt x="22416" y="7626"/>
                </a:cubicBezTo>
                <a:cubicBezTo>
                  <a:pt x="22386" y="7663"/>
                  <a:pt x="22359" y="7702"/>
                  <a:pt x="22347" y="7749"/>
                </a:cubicBezTo>
                <a:cubicBezTo>
                  <a:pt x="22336" y="7793"/>
                  <a:pt x="22358" y="7820"/>
                  <a:pt x="22404" y="7807"/>
                </a:cubicBezTo>
                <a:cubicBezTo>
                  <a:pt x="22444" y="7796"/>
                  <a:pt x="22481" y="7755"/>
                  <a:pt x="22502" y="7721"/>
                </a:cubicBezTo>
                <a:cubicBezTo>
                  <a:pt x="22522" y="7688"/>
                  <a:pt x="22536" y="7647"/>
                  <a:pt x="22529" y="7608"/>
                </a:cubicBezTo>
                <a:cubicBezTo>
                  <a:pt x="22523" y="7576"/>
                  <a:pt x="22507" y="7564"/>
                  <a:pt x="22479" y="7557"/>
                </a:cubicBezTo>
              </a:path>
              <a:path w="4340" h="2256">
                <a:moveTo>
                  <a:pt x="22670" y="7602"/>
                </a:moveTo>
                <a:cubicBezTo>
                  <a:pt x="22670" y="7646"/>
                  <a:pt x="22661" y="7659"/>
                  <a:pt x="22636" y="7696"/>
                </a:cubicBezTo>
                <a:cubicBezTo>
                  <a:pt x="22615" y="7727"/>
                  <a:pt x="22589" y="7757"/>
                  <a:pt x="22573" y="7791"/>
                </a:cubicBezTo>
                <a:cubicBezTo>
                  <a:pt x="22571" y="7797"/>
                  <a:pt x="22569" y="7802"/>
                  <a:pt x="22567" y="7808"/>
                </a:cubicBezTo>
                <a:cubicBezTo>
                  <a:pt x="22592" y="7780"/>
                  <a:pt x="22617" y="7750"/>
                  <a:pt x="22637" y="7719"/>
                </a:cubicBezTo>
                <a:cubicBezTo>
                  <a:pt x="22661" y="7682"/>
                  <a:pt x="22681" y="7641"/>
                  <a:pt x="22708" y="7607"/>
                </a:cubicBezTo>
                <a:cubicBezTo>
                  <a:pt x="22713" y="7602"/>
                  <a:pt x="22718" y="7597"/>
                  <a:pt x="22723" y="7592"/>
                </a:cubicBezTo>
                <a:cubicBezTo>
                  <a:pt x="22717" y="7625"/>
                  <a:pt x="22704" y="7655"/>
                  <a:pt x="22696" y="7688"/>
                </a:cubicBezTo>
                <a:cubicBezTo>
                  <a:pt x="22689" y="7716"/>
                  <a:pt x="22674" y="7764"/>
                  <a:pt x="22710" y="7779"/>
                </a:cubicBezTo>
                <a:cubicBezTo>
                  <a:pt x="22735" y="7790"/>
                  <a:pt x="22785" y="7750"/>
                  <a:pt x="22803" y="7738"/>
                </a:cubicBezTo>
                <a:cubicBezTo>
                  <a:pt x="22842" y="7712"/>
                  <a:pt x="22868" y="7675"/>
                  <a:pt x="22896" y="7638"/>
                </a:cubicBezTo>
                <a:cubicBezTo>
                  <a:pt x="22911" y="7617"/>
                  <a:pt x="22916" y="7611"/>
                  <a:pt x="22925" y="7597"/>
                </a:cubicBezTo>
              </a:path>
              <a:path w="4340" h="2256">
                <a:moveTo>
                  <a:pt x="23041" y="7566"/>
                </a:moveTo>
                <a:cubicBezTo>
                  <a:pt x="23045" y="7598"/>
                  <a:pt x="23035" y="7625"/>
                  <a:pt x="23021" y="7655"/>
                </a:cubicBezTo>
                <a:cubicBezTo>
                  <a:pt x="23003" y="7693"/>
                  <a:pt x="22984" y="7726"/>
                  <a:pt x="22975" y="7767"/>
                </a:cubicBezTo>
                <a:cubicBezTo>
                  <a:pt x="22961" y="7835"/>
                  <a:pt x="22981" y="7795"/>
                  <a:pt x="22997" y="7757"/>
                </a:cubicBezTo>
              </a:path>
              <a:path w="4340" h="2256">
                <a:moveTo>
                  <a:pt x="22913" y="7553"/>
                </a:moveTo>
                <a:cubicBezTo>
                  <a:pt x="22942" y="7563"/>
                  <a:pt x="22970" y="7558"/>
                  <a:pt x="23003" y="7557"/>
                </a:cubicBezTo>
                <a:cubicBezTo>
                  <a:pt x="23043" y="7556"/>
                  <a:pt x="23082" y="7551"/>
                  <a:pt x="23122" y="7547"/>
                </a:cubicBezTo>
              </a:path>
              <a:path w="4340" h="2256">
                <a:moveTo>
                  <a:pt x="23229" y="7663"/>
                </a:moveTo>
                <a:cubicBezTo>
                  <a:pt x="23250" y="7653"/>
                  <a:pt x="23256" y="7650"/>
                  <a:pt x="23269" y="7643"/>
                </a:cubicBezTo>
                <a:cubicBezTo>
                  <a:pt x="23261" y="7668"/>
                  <a:pt x="23251" y="7692"/>
                  <a:pt x="23242" y="7717"/>
                </a:cubicBezTo>
                <a:cubicBezTo>
                  <a:pt x="23232" y="7746"/>
                  <a:pt x="23221" y="7777"/>
                  <a:pt x="23219" y="7808"/>
                </a:cubicBezTo>
                <a:cubicBezTo>
                  <a:pt x="23215" y="7863"/>
                  <a:pt x="23230" y="7788"/>
                  <a:pt x="23232" y="7779"/>
                </a:cubicBezTo>
              </a:path>
              <a:path w="4340" h="2256">
                <a:moveTo>
                  <a:pt x="23244" y="7621"/>
                </a:moveTo>
                <a:cubicBezTo>
                  <a:pt x="23246" y="7581"/>
                  <a:pt x="23247" y="7563"/>
                  <a:pt x="23292" y="7556"/>
                </a:cubicBezTo>
                <a:cubicBezTo>
                  <a:pt x="23337" y="7549"/>
                  <a:pt x="23461" y="7536"/>
                  <a:pt x="23500" y="7560"/>
                </a:cubicBezTo>
                <a:cubicBezTo>
                  <a:pt x="23540" y="7584"/>
                  <a:pt x="23489" y="7627"/>
                  <a:pt x="23470" y="7646"/>
                </a:cubicBezTo>
                <a:cubicBezTo>
                  <a:pt x="23433" y="7684"/>
                  <a:pt x="23389" y="7715"/>
                  <a:pt x="23352" y="7753"/>
                </a:cubicBezTo>
                <a:cubicBezTo>
                  <a:pt x="23338" y="7768"/>
                  <a:pt x="23333" y="7774"/>
                  <a:pt x="23334" y="7790"/>
                </a:cubicBezTo>
                <a:cubicBezTo>
                  <a:pt x="23365" y="7793"/>
                  <a:pt x="23382" y="7786"/>
                  <a:pt x="23411" y="7774"/>
                </a:cubicBezTo>
                <a:cubicBezTo>
                  <a:pt x="23418" y="7771"/>
                  <a:pt x="23425" y="7768"/>
                  <a:pt x="23432" y="7765"/>
                </a:cubicBezTo>
              </a:path>
              <a:path w="4340" h="2256">
                <a:moveTo>
                  <a:pt x="23685" y="7689"/>
                </a:moveTo>
                <a:cubicBezTo>
                  <a:pt x="23649" y="7682"/>
                  <a:pt x="23632" y="7708"/>
                  <a:pt x="23610" y="7740"/>
                </a:cubicBezTo>
                <a:cubicBezTo>
                  <a:pt x="23589" y="7770"/>
                  <a:pt x="23564" y="7814"/>
                  <a:pt x="23573" y="7853"/>
                </a:cubicBezTo>
                <a:cubicBezTo>
                  <a:pt x="23582" y="7892"/>
                  <a:pt x="23632" y="7872"/>
                  <a:pt x="23653" y="7860"/>
                </a:cubicBezTo>
                <a:cubicBezTo>
                  <a:pt x="23692" y="7838"/>
                  <a:pt x="23730" y="7802"/>
                  <a:pt x="23747" y="7760"/>
                </a:cubicBezTo>
                <a:cubicBezTo>
                  <a:pt x="23760" y="7728"/>
                  <a:pt x="23753" y="7692"/>
                  <a:pt x="23729" y="7667"/>
                </a:cubicBezTo>
                <a:cubicBezTo>
                  <a:pt x="23704" y="7644"/>
                  <a:pt x="23697" y="7639"/>
                  <a:pt x="23684" y="7623"/>
                </a:cubicBezTo>
              </a:path>
              <a:path w="4340" h="2256">
                <a:moveTo>
                  <a:pt x="23965" y="7688"/>
                </a:moveTo>
                <a:cubicBezTo>
                  <a:pt x="23971" y="7686"/>
                  <a:pt x="23978" y="7684"/>
                  <a:pt x="23984" y="7682"/>
                </a:cubicBezTo>
                <a:cubicBezTo>
                  <a:pt x="23972" y="7709"/>
                  <a:pt x="23956" y="7731"/>
                  <a:pt x="23938" y="7755"/>
                </a:cubicBezTo>
                <a:cubicBezTo>
                  <a:pt x="23914" y="7787"/>
                  <a:pt x="23891" y="7818"/>
                  <a:pt x="23868" y="7850"/>
                </a:cubicBezTo>
                <a:cubicBezTo>
                  <a:pt x="23851" y="7874"/>
                  <a:pt x="23843" y="7886"/>
                  <a:pt x="23835" y="7913"/>
                </a:cubicBezTo>
                <a:cubicBezTo>
                  <a:pt x="23881" y="7915"/>
                  <a:pt x="23921" y="7909"/>
                  <a:pt x="23966" y="7898"/>
                </a:cubicBezTo>
                <a:cubicBezTo>
                  <a:pt x="24011" y="7887"/>
                  <a:pt x="24056" y="7874"/>
                  <a:pt x="24101" y="78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121600" y="2909880"/>
            <a:ext cx="488880" cy="138240"/>
          </a:xfrm>
          <a:custGeom>
            <a:avLst/>
            <a:gdLst/>
            <a:ahLst/>
            <a:rect l="l" t="t" r="r" b="b"/>
            <a:pathLst>
              <a:path w="1360" h="384">
                <a:moveTo>
                  <a:pt x="23108" y="8145"/>
                </a:moveTo>
                <a:cubicBezTo>
                  <a:pt x="23098" y="8187"/>
                  <a:pt x="23079" y="8225"/>
                  <a:pt x="23066" y="8266"/>
                </a:cubicBezTo>
                <a:cubicBezTo>
                  <a:pt x="23049" y="8318"/>
                  <a:pt x="23036" y="8371"/>
                  <a:pt x="23017" y="8422"/>
                </a:cubicBezTo>
                <a:cubicBezTo>
                  <a:pt x="23008" y="8444"/>
                  <a:pt x="23005" y="8450"/>
                  <a:pt x="23000" y="8464"/>
                </a:cubicBezTo>
              </a:path>
              <a:path w="1360" h="384">
                <a:moveTo>
                  <a:pt x="23031" y="8155"/>
                </a:moveTo>
                <a:cubicBezTo>
                  <a:pt x="23059" y="8142"/>
                  <a:pt x="23091" y="8137"/>
                  <a:pt x="23123" y="8133"/>
                </a:cubicBezTo>
                <a:cubicBezTo>
                  <a:pt x="23175" y="8126"/>
                  <a:pt x="23226" y="8122"/>
                  <a:pt x="23277" y="8109"/>
                </a:cubicBezTo>
                <a:cubicBezTo>
                  <a:pt x="23309" y="8101"/>
                  <a:pt x="23340" y="8091"/>
                  <a:pt x="23371" y="8081"/>
                </a:cubicBezTo>
              </a:path>
              <a:path w="1360" h="384">
                <a:moveTo>
                  <a:pt x="23076" y="8271"/>
                </a:moveTo>
                <a:cubicBezTo>
                  <a:pt x="23074" y="8278"/>
                  <a:pt x="23071" y="8285"/>
                  <a:pt x="23069" y="8292"/>
                </a:cubicBezTo>
                <a:cubicBezTo>
                  <a:pt x="23104" y="8288"/>
                  <a:pt x="23140" y="8281"/>
                  <a:pt x="23175" y="8275"/>
                </a:cubicBezTo>
                <a:cubicBezTo>
                  <a:pt x="23219" y="8267"/>
                  <a:pt x="23263" y="8255"/>
                  <a:pt x="23305" y="8239"/>
                </a:cubicBezTo>
                <a:cubicBezTo>
                  <a:pt x="23316" y="8234"/>
                  <a:pt x="23327" y="8230"/>
                  <a:pt x="23338" y="8225"/>
                </a:cubicBezTo>
              </a:path>
              <a:path w="1360" h="384">
                <a:moveTo>
                  <a:pt x="23413" y="8169"/>
                </a:moveTo>
                <a:cubicBezTo>
                  <a:pt x="23416" y="8207"/>
                  <a:pt x="23395" y="8229"/>
                  <a:pt x="23375" y="8264"/>
                </a:cubicBezTo>
                <a:cubicBezTo>
                  <a:pt x="23356" y="8297"/>
                  <a:pt x="23279" y="8399"/>
                  <a:pt x="23295" y="8440"/>
                </a:cubicBezTo>
                <a:cubicBezTo>
                  <a:pt x="23310" y="8477"/>
                  <a:pt x="23360" y="8448"/>
                  <a:pt x="23380" y="8435"/>
                </a:cubicBezTo>
                <a:cubicBezTo>
                  <a:pt x="23415" y="8413"/>
                  <a:pt x="23448" y="8387"/>
                  <a:pt x="23480" y="8362"/>
                </a:cubicBezTo>
              </a:path>
              <a:path w="1360" h="384">
                <a:moveTo>
                  <a:pt x="23679" y="8223"/>
                </a:moveTo>
                <a:cubicBezTo>
                  <a:pt x="23642" y="8221"/>
                  <a:pt x="23623" y="8250"/>
                  <a:pt x="23598" y="8280"/>
                </a:cubicBezTo>
                <a:cubicBezTo>
                  <a:pt x="23572" y="8311"/>
                  <a:pt x="23542" y="8352"/>
                  <a:pt x="23541" y="8395"/>
                </a:cubicBezTo>
                <a:cubicBezTo>
                  <a:pt x="23542" y="8401"/>
                  <a:pt x="23544" y="8406"/>
                  <a:pt x="23545" y="8412"/>
                </a:cubicBezTo>
                <a:cubicBezTo>
                  <a:pt x="23598" y="8413"/>
                  <a:pt x="23624" y="8398"/>
                  <a:pt x="23663" y="8358"/>
                </a:cubicBezTo>
                <a:cubicBezTo>
                  <a:pt x="23700" y="8320"/>
                  <a:pt x="23739" y="8268"/>
                  <a:pt x="23741" y="8212"/>
                </a:cubicBezTo>
                <a:cubicBezTo>
                  <a:pt x="23742" y="8178"/>
                  <a:pt x="23717" y="8186"/>
                  <a:pt x="23694" y="8184"/>
                </a:cubicBezTo>
              </a:path>
              <a:path w="1360" h="384">
                <a:moveTo>
                  <a:pt x="23926" y="8245"/>
                </a:moveTo>
                <a:cubicBezTo>
                  <a:pt x="23951" y="8263"/>
                  <a:pt x="23939" y="8279"/>
                  <a:pt x="23929" y="8313"/>
                </a:cubicBezTo>
                <a:cubicBezTo>
                  <a:pt x="23921" y="8340"/>
                  <a:pt x="23915" y="8365"/>
                  <a:pt x="23914" y="8393"/>
                </a:cubicBezTo>
                <a:cubicBezTo>
                  <a:pt x="23948" y="8376"/>
                  <a:pt x="23972" y="8349"/>
                  <a:pt x="24000" y="8324"/>
                </a:cubicBezTo>
                <a:cubicBezTo>
                  <a:pt x="24017" y="8310"/>
                  <a:pt x="24024" y="8306"/>
                  <a:pt x="24040" y="8306"/>
                </a:cubicBezTo>
                <a:cubicBezTo>
                  <a:pt x="24042" y="8342"/>
                  <a:pt x="24033" y="8377"/>
                  <a:pt x="24037" y="8413"/>
                </a:cubicBezTo>
                <a:cubicBezTo>
                  <a:pt x="24041" y="8451"/>
                  <a:pt x="24066" y="8464"/>
                  <a:pt x="24102" y="8455"/>
                </a:cubicBezTo>
                <a:cubicBezTo>
                  <a:pt x="24156" y="8442"/>
                  <a:pt x="24205" y="8404"/>
                  <a:pt x="24248" y="8371"/>
                </a:cubicBezTo>
                <a:cubicBezTo>
                  <a:pt x="24287" y="8340"/>
                  <a:pt x="24320" y="8307"/>
                  <a:pt x="24342" y="8262"/>
                </a:cubicBezTo>
                <a:cubicBezTo>
                  <a:pt x="24351" y="8239"/>
                  <a:pt x="24353" y="8233"/>
                  <a:pt x="24359" y="821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8153280" y="3138480"/>
            <a:ext cx="600120" cy="131760"/>
          </a:xfrm>
          <a:custGeom>
            <a:avLst/>
            <a:gdLst/>
            <a:ahLst/>
            <a:rect l="l" t="t" r="r" b="b"/>
            <a:pathLst>
              <a:path w="1667" h="365">
                <a:moveTo>
                  <a:pt x="22941" y="9036"/>
                </a:moveTo>
                <a:cubicBezTo>
                  <a:pt x="22953" y="9049"/>
                  <a:pt x="22971" y="9001"/>
                  <a:pt x="22990" y="8973"/>
                </a:cubicBezTo>
                <a:cubicBezTo>
                  <a:pt x="23025" y="8921"/>
                  <a:pt x="23064" y="8870"/>
                  <a:pt x="23105" y="8823"/>
                </a:cubicBezTo>
                <a:cubicBezTo>
                  <a:pt x="23135" y="8789"/>
                  <a:pt x="23165" y="8756"/>
                  <a:pt x="23203" y="8733"/>
                </a:cubicBezTo>
                <a:cubicBezTo>
                  <a:pt x="23216" y="8780"/>
                  <a:pt x="23199" y="8813"/>
                  <a:pt x="23183" y="8861"/>
                </a:cubicBezTo>
                <a:cubicBezTo>
                  <a:pt x="23161" y="8928"/>
                  <a:pt x="23140" y="8994"/>
                  <a:pt x="23125" y="9063"/>
                </a:cubicBezTo>
                <a:cubicBezTo>
                  <a:pt x="23124" y="9069"/>
                  <a:pt x="23122" y="9074"/>
                  <a:pt x="23121" y="9080"/>
                </a:cubicBezTo>
              </a:path>
              <a:path w="1667" h="365">
                <a:moveTo>
                  <a:pt x="23062" y="8956"/>
                </a:moveTo>
                <a:cubicBezTo>
                  <a:pt x="23097" y="8924"/>
                  <a:pt x="23121" y="8920"/>
                  <a:pt x="23166" y="8909"/>
                </a:cubicBezTo>
                <a:cubicBezTo>
                  <a:pt x="23213" y="8898"/>
                  <a:pt x="23259" y="8884"/>
                  <a:pt x="23305" y="8869"/>
                </a:cubicBezTo>
              </a:path>
              <a:path w="1667" h="365">
                <a:moveTo>
                  <a:pt x="23340" y="8882"/>
                </a:moveTo>
                <a:cubicBezTo>
                  <a:pt x="23340" y="8920"/>
                  <a:pt x="23337" y="8939"/>
                  <a:pt x="23319" y="8972"/>
                </a:cubicBezTo>
                <a:cubicBezTo>
                  <a:pt x="23304" y="9000"/>
                  <a:pt x="23284" y="9085"/>
                  <a:pt x="23272" y="9055"/>
                </a:cubicBezTo>
                <a:cubicBezTo>
                  <a:pt x="23274" y="9047"/>
                  <a:pt x="23277" y="9039"/>
                  <a:pt x="23279" y="9031"/>
                </a:cubicBezTo>
              </a:path>
              <a:path w="1667" h="365">
                <a:moveTo>
                  <a:pt x="23333" y="8797"/>
                </a:moveTo>
                <a:cubicBezTo>
                  <a:pt x="23354" y="8767"/>
                  <a:pt x="23375" y="8741"/>
                  <a:pt x="23414" y="8731"/>
                </a:cubicBezTo>
                <a:cubicBezTo>
                  <a:pt x="23459" y="8720"/>
                  <a:pt x="23506" y="8742"/>
                  <a:pt x="23530" y="8781"/>
                </a:cubicBezTo>
                <a:cubicBezTo>
                  <a:pt x="23563" y="8835"/>
                  <a:pt x="23541" y="8904"/>
                  <a:pt x="23511" y="8954"/>
                </a:cubicBezTo>
                <a:cubicBezTo>
                  <a:pt x="23480" y="9005"/>
                  <a:pt x="23430" y="9063"/>
                  <a:pt x="23370" y="9078"/>
                </a:cubicBezTo>
                <a:cubicBezTo>
                  <a:pt x="23333" y="9087"/>
                  <a:pt x="23324" y="9069"/>
                  <a:pt x="23316" y="9039"/>
                </a:cubicBezTo>
              </a:path>
              <a:path w="1667" h="365">
                <a:moveTo>
                  <a:pt x="23646" y="8859"/>
                </a:moveTo>
                <a:cubicBezTo>
                  <a:pt x="23664" y="8844"/>
                  <a:pt x="23667" y="8838"/>
                  <a:pt x="23682" y="8839"/>
                </a:cubicBezTo>
                <a:cubicBezTo>
                  <a:pt x="23682" y="8870"/>
                  <a:pt x="23674" y="8899"/>
                  <a:pt x="23667" y="8930"/>
                </a:cubicBezTo>
                <a:cubicBezTo>
                  <a:pt x="23658" y="8970"/>
                  <a:pt x="23647" y="9014"/>
                  <a:pt x="23650" y="9055"/>
                </a:cubicBezTo>
                <a:cubicBezTo>
                  <a:pt x="23654" y="9108"/>
                  <a:pt x="23709" y="9064"/>
                  <a:pt x="23727" y="9049"/>
                </a:cubicBezTo>
                <a:cubicBezTo>
                  <a:pt x="23786" y="9000"/>
                  <a:pt x="23835" y="8941"/>
                  <a:pt x="23890" y="8889"/>
                </a:cubicBezTo>
                <a:cubicBezTo>
                  <a:pt x="23919" y="8861"/>
                  <a:pt x="23943" y="8843"/>
                  <a:pt x="23962" y="8808"/>
                </a:cubicBezTo>
              </a:path>
              <a:path w="1667" h="365">
                <a:moveTo>
                  <a:pt x="23990" y="8847"/>
                </a:moveTo>
                <a:cubicBezTo>
                  <a:pt x="24020" y="8865"/>
                  <a:pt x="24013" y="8877"/>
                  <a:pt x="23999" y="8909"/>
                </a:cubicBezTo>
                <a:cubicBezTo>
                  <a:pt x="23986" y="8939"/>
                  <a:pt x="23975" y="8971"/>
                  <a:pt x="23961" y="9001"/>
                </a:cubicBezTo>
                <a:cubicBezTo>
                  <a:pt x="23952" y="9017"/>
                  <a:pt x="23948" y="9023"/>
                  <a:pt x="23941" y="9033"/>
                </a:cubicBezTo>
              </a:path>
              <a:path w="1667" h="365">
                <a:moveTo>
                  <a:pt x="24331" y="8762"/>
                </a:moveTo>
                <a:cubicBezTo>
                  <a:pt x="24294" y="8792"/>
                  <a:pt x="24254" y="8819"/>
                  <a:pt x="24218" y="8850"/>
                </a:cubicBezTo>
                <a:cubicBezTo>
                  <a:pt x="24172" y="8889"/>
                  <a:pt x="24124" y="8933"/>
                  <a:pt x="24090" y="8984"/>
                </a:cubicBezTo>
                <a:cubicBezTo>
                  <a:pt x="24073" y="9010"/>
                  <a:pt x="24054" y="9053"/>
                  <a:pt x="24101" y="9061"/>
                </a:cubicBezTo>
                <a:cubicBezTo>
                  <a:pt x="24143" y="9068"/>
                  <a:pt x="24202" y="9034"/>
                  <a:pt x="24237" y="9016"/>
                </a:cubicBezTo>
                <a:cubicBezTo>
                  <a:pt x="24250" y="9009"/>
                  <a:pt x="24262" y="9001"/>
                  <a:pt x="24275" y="8994"/>
                </a:cubicBezTo>
              </a:path>
              <a:path w="1667" h="365">
                <a:moveTo>
                  <a:pt x="24442" y="8837"/>
                </a:moveTo>
                <a:cubicBezTo>
                  <a:pt x="24434" y="8867"/>
                  <a:pt x="24426" y="8899"/>
                  <a:pt x="24412" y="8927"/>
                </a:cubicBezTo>
                <a:cubicBezTo>
                  <a:pt x="24402" y="8947"/>
                  <a:pt x="24375" y="8982"/>
                  <a:pt x="24385" y="9008"/>
                </a:cubicBezTo>
                <a:cubicBezTo>
                  <a:pt x="24399" y="9043"/>
                  <a:pt x="24432" y="9032"/>
                  <a:pt x="24457" y="9019"/>
                </a:cubicBezTo>
                <a:cubicBezTo>
                  <a:pt x="24478" y="9008"/>
                  <a:pt x="24494" y="8992"/>
                  <a:pt x="24511" y="8976"/>
                </a:cubicBezTo>
              </a:path>
              <a:path w="1667" h="365">
                <a:moveTo>
                  <a:pt x="24414" y="8918"/>
                </a:moveTo>
                <a:cubicBezTo>
                  <a:pt x="24435" y="8953"/>
                  <a:pt x="24462" y="8954"/>
                  <a:pt x="24497" y="8922"/>
                </a:cubicBezTo>
                <a:cubicBezTo>
                  <a:pt x="24503" y="8914"/>
                  <a:pt x="24508" y="8907"/>
                  <a:pt x="24514" y="8899"/>
                </a:cubicBezTo>
              </a:path>
              <a:path w="1667" h="365">
                <a:moveTo>
                  <a:pt x="24423" y="8812"/>
                </a:moveTo>
                <a:cubicBezTo>
                  <a:pt x="24416" y="8810"/>
                  <a:pt x="24410" y="8809"/>
                  <a:pt x="24403" y="8807"/>
                </a:cubicBezTo>
                <a:cubicBezTo>
                  <a:pt x="24435" y="8791"/>
                  <a:pt x="24467" y="8780"/>
                  <a:pt x="24500" y="8767"/>
                </a:cubicBezTo>
                <a:cubicBezTo>
                  <a:pt x="24537" y="8752"/>
                  <a:pt x="24571" y="8736"/>
                  <a:pt x="24605" y="871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345440" y="1544760"/>
            <a:ext cx="768240" cy="407880"/>
          </a:xfrm>
          <a:custGeom>
            <a:avLst/>
            <a:gdLst/>
            <a:ahLst/>
            <a:rect l="l" t="t" r="r" b="b"/>
            <a:pathLst>
              <a:path w="2133" h="1135">
                <a:moveTo>
                  <a:pt x="20405" y="5398"/>
                </a:moveTo>
                <a:cubicBezTo>
                  <a:pt x="20442" y="5424"/>
                  <a:pt x="20473" y="5437"/>
                  <a:pt x="20510" y="5401"/>
                </a:cubicBezTo>
                <a:cubicBezTo>
                  <a:pt x="20576" y="5338"/>
                  <a:pt x="20569" y="5234"/>
                  <a:pt x="20555" y="5153"/>
                </a:cubicBezTo>
                <a:cubicBezTo>
                  <a:pt x="20548" y="5113"/>
                  <a:pt x="20530" y="5061"/>
                  <a:pt x="20553" y="5024"/>
                </a:cubicBezTo>
                <a:cubicBezTo>
                  <a:pt x="20574" y="4990"/>
                  <a:pt x="20622" y="4976"/>
                  <a:pt x="20657" y="4962"/>
                </a:cubicBezTo>
                <a:cubicBezTo>
                  <a:pt x="20694" y="4947"/>
                  <a:pt x="20733" y="4938"/>
                  <a:pt x="20771" y="4926"/>
                </a:cubicBezTo>
                <a:cubicBezTo>
                  <a:pt x="20790" y="4921"/>
                  <a:pt x="20795" y="4920"/>
                  <a:pt x="20807" y="4915"/>
                </a:cubicBezTo>
                <a:cubicBezTo>
                  <a:pt x="20754" y="4906"/>
                  <a:pt x="20723" y="4904"/>
                  <a:pt x="20685" y="4860"/>
                </a:cubicBezTo>
                <a:cubicBezTo>
                  <a:pt x="20657" y="4827"/>
                  <a:pt x="20654" y="4787"/>
                  <a:pt x="20654" y="4746"/>
                </a:cubicBezTo>
                <a:cubicBezTo>
                  <a:pt x="20654" y="4707"/>
                  <a:pt x="20655" y="4675"/>
                  <a:pt x="20670" y="4638"/>
                </a:cubicBezTo>
                <a:cubicBezTo>
                  <a:pt x="20692" y="4581"/>
                  <a:pt x="20747" y="4524"/>
                  <a:pt x="20752" y="4462"/>
                </a:cubicBezTo>
                <a:cubicBezTo>
                  <a:pt x="20755" y="4425"/>
                  <a:pt x="20734" y="4388"/>
                  <a:pt x="20708" y="4363"/>
                </a:cubicBezTo>
                <a:cubicBezTo>
                  <a:pt x="20671" y="4328"/>
                  <a:pt x="20618" y="4309"/>
                  <a:pt x="20569" y="4299"/>
                </a:cubicBezTo>
                <a:cubicBezTo>
                  <a:pt x="20521" y="4289"/>
                  <a:pt x="20473" y="4291"/>
                  <a:pt x="20424" y="4294"/>
                </a:cubicBezTo>
              </a:path>
              <a:path w="2133" h="1135">
                <a:moveTo>
                  <a:pt x="21145" y="4541"/>
                </a:moveTo>
                <a:cubicBezTo>
                  <a:pt x="21154" y="4577"/>
                  <a:pt x="21144" y="4613"/>
                  <a:pt x="21137" y="4651"/>
                </a:cubicBezTo>
                <a:cubicBezTo>
                  <a:pt x="21126" y="4710"/>
                  <a:pt x="21119" y="4766"/>
                  <a:pt x="21114" y="4826"/>
                </a:cubicBezTo>
                <a:cubicBezTo>
                  <a:pt x="21111" y="4854"/>
                  <a:pt x="21111" y="4862"/>
                  <a:pt x="21106" y="4879"/>
                </a:cubicBezTo>
              </a:path>
              <a:path w="2133" h="1135">
                <a:moveTo>
                  <a:pt x="21097" y="4582"/>
                </a:moveTo>
                <a:cubicBezTo>
                  <a:pt x="21106" y="4552"/>
                  <a:pt x="21124" y="4543"/>
                  <a:pt x="21158" y="4533"/>
                </a:cubicBezTo>
                <a:cubicBezTo>
                  <a:pt x="21208" y="4518"/>
                  <a:pt x="21257" y="4505"/>
                  <a:pt x="21306" y="4488"/>
                </a:cubicBezTo>
                <a:cubicBezTo>
                  <a:pt x="21344" y="4475"/>
                  <a:pt x="21355" y="4471"/>
                  <a:pt x="21380" y="4462"/>
                </a:cubicBezTo>
              </a:path>
              <a:path w="2133" h="1135">
                <a:moveTo>
                  <a:pt x="21131" y="4707"/>
                </a:moveTo>
                <a:cubicBezTo>
                  <a:pt x="21132" y="4743"/>
                  <a:pt x="21156" y="4733"/>
                  <a:pt x="21187" y="4719"/>
                </a:cubicBezTo>
                <a:cubicBezTo>
                  <a:pt x="21239" y="4695"/>
                  <a:pt x="21291" y="4667"/>
                  <a:pt x="21342" y="4641"/>
                </a:cubicBezTo>
                <a:cubicBezTo>
                  <a:pt x="21356" y="4634"/>
                  <a:pt x="21369" y="4626"/>
                  <a:pt x="21383" y="4619"/>
                </a:cubicBezTo>
              </a:path>
              <a:path w="2133" h="1135">
                <a:moveTo>
                  <a:pt x="21576" y="4536"/>
                </a:moveTo>
                <a:cubicBezTo>
                  <a:pt x="21574" y="4567"/>
                  <a:pt x="21567" y="4594"/>
                  <a:pt x="21555" y="4623"/>
                </a:cubicBezTo>
                <a:cubicBezTo>
                  <a:pt x="21532" y="4679"/>
                  <a:pt x="21513" y="4732"/>
                  <a:pt x="21503" y="4792"/>
                </a:cubicBezTo>
                <a:cubicBezTo>
                  <a:pt x="21502" y="4799"/>
                  <a:pt x="21501" y="4805"/>
                  <a:pt x="21500" y="4812"/>
                </a:cubicBezTo>
              </a:path>
              <a:path w="2133" h="1135">
                <a:moveTo>
                  <a:pt x="21507" y="4607"/>
                </a:moveTo>
                <a:cubicBezTo>
                  <a:pt x="21511" y="4565"/>
                  <a:pt x="21530" y="4553"/>
                  <a:pt x="21569" y="4536"/>
                </a:cubicBezTo>
                <a:cubicBezTo>
                  <a:pt x="21622" y="4513"/>
                  <a:pt x="21701" y="4489"/>
                  <a:pt x="21752" y="4515"/>
                </a:cubicBezTo>
                <a:cubicBezTo>
                  <a:pt x="21725" y="4558"/>
                  <a:pt x="21694" y="4589"/>
                  <a:pt x="21658" y="4625"/>
                </a:cubicBezTo>
                <a:cubicBezTo>
                  <a:pt x="21622" y="4662"/>
                  <a:pt x="21581" y="4698"/>
                  <a:pt x="21563" y="4746"/>
                </a:cubicBezTo>
                <a:cubicBezTo>
                  <a:pt x="21602" y="4755"/>
                  <a:pt x="21624" y="4736"/>
                  <a:pt x="21661" y="4715"/>
                </a:cubicBezTo>
                <a:cubicBezTo>
                  <a:pt x="21695" y="4695"/>
                  <a:pt x="21706" y="4688"/>
                  <a:pt x="21729" y="4674"/>
                </a:cubicBezTo>
              </a:path>
              <a:path w="2133" h="1135">
                <a:moveTo>
                  <a:pt x="21982" y="4696"/>
                </a:moveTo>
                <a:cubicBezTo>
                  <a:pt x="22000" y="4673"/>
                  <a:pt x="22027" y="4646"/>
                  <a:pt x="22032" y="4616"/>
                </a:cubicBezTo>
                <a:cubicBezTo>
                  <a:pt x="22031" y="4596"/>
                  <a:pt x="22029" y="4588"/>
                  <a:pt x="22016" y="4579"/>
                </a:cubicBezTo>
                <a:cubicBezTo>
                  <a:pt x="21979" y="4593"/>
                  <a:pt x="21950" y="4613"/>
                  <a:pt x="21924" y="4644"/>
                </a:cubicBezTo>
                <a:cubicBezTo>
                  <a:pt x="21899" y="4674"/>
                  <a:pt x="21863" y="4723"/>
                  <a:pt x="21869" y="4764"/>
                </a:cubicBezTo>
                <a:cubicBezTo>
                  <a:pt x="21875" y="4807"/>
                  <a:pt x="21939" y="4780"/>
                  <a:pt x="21959" y="4769"/>
                </a:cubicBezTo>
                <a:cubicBezTo>
                  <a:pt x="22009" y="4742"/>
                  <a:pt x="22055" y="4700"/>
                  <a:pt x="22086" y="4652"/>
                </a:cubicBezTo>
                <a:cubicBezTo>
                  <a:pt x="22110" y="4614"/>
                  <a:pt x="22114" y="4591"/>
                  <a:pt x="22090" y="4558"/>
                </a:cubicBezTo>
                <a:cubicBezTo>
                  <a:pt x="22057" y="4571"/>
                  <a:pt x="22051" y="4573"/>
                  <a:pt x="22035" y="4602"/>
                </a:cubicBezTo>
              </a:path>
              <a:path w="2133" h="1135">
                <a:moveTo>
                  <a:pt x="22199" y="4574"/>
                </a:moveTo>
                <a:cubicBezTo>
                  <a:pt x="22225" y="4600"/>
                  <a:pt x="22206" y="4621"/>
                  <a:pt x="22189" y="4657"/>
                </a:cubicBezTo>
                <a:cubicBezTo>
                  <a:pt x="22168" y="4701"/>
                  <a:pt x="22144" y="4742"/>
                  <a:pt x="22127" y="4787"/>
                </a:cubicBezTo>
                <a:cubicBezTo>
                  <a:pt x="22121" y="4807"/>
                  <a:pt x="22118" y="4812"/>
                  <a:pt x="22121" y="4826"/>
                </a:cubicBezTo>
                <a:cubicBezTo>
                  <a:pt x="22154" y="4790"/>
                  <a:pt x="22180" y="4754"/>
                  <a:pt x="22206" y="4713"/>
                </a:cubicBezTo>
                <a:cubicBezTo>
                  <a:pt x="22229" y="4676"/>
                  <a:pt x="22253" y="4640"/>
                  <a:pt x="22276" y="4603"/>
                </a:cubicBezTo>
                <a:cubicBezTo>
                  <a:pt x="22288" y="4584"/>
                  <a:pt x="22292" y="4577"/>
                  <a:pt x="22303" y="4565"/>
                </a:cubicBezTo>
                <a:cubicBezTo>
                  <a:pt x="22293" y="4596"/>
                  <a:pt x="22280" y="4626"/>
                  <a:pt x="22272" y="4657"/>
                </a:cubicBezTo>
                <a:cubicBezTo>
                  <a:pt x="22268" y="4677"/>
                  <a:pt x="22267" y="4683"/>
                  <a:pt x="22268" y="4696"/>
                </a:cubicBezTo>
                <a:cubicBezTo>
                  <a:pt x="22308" y="4717"/>
                  <a:pt x="22323" y="4706"/>
                  <a:pt x="22362" y="4681"/>
                </a:cubicBezTo>
                <a:cubicBezTo>
                  <a:pt x="22405" y="4654"/>
                  <a:pt x="22444" y="4619"/>
                  <a:pt x="22479" y="4583"/>
                </a:cubicBezTo>
                <a:cubicBezTo>
                  <a:pt x="22499" y="4562"/>
                  <a:pt x="22510" y="4550"/>
                  <a:pt x="22535" y="4536"/>
                </a:cubicBezTo>
                <a:cubicBezTo>
                  <a:pt x="22535" y="4583"/>
                  <a:pt x="22522" y="4624"/>
                  <a:pt x="22509" y="4669"/>
                </a:cubicBezTo>
                <a:cubicBezTo>
                  <a:pt x="22491" y="4733"/>
                  <a:pt x="22475" y="4797"/>
                  <a:pt x="22455" y="4861"/>
                </a:cubicBezTo>
                <a:cubicBezTo>
                  <a:pt x="22446" y="4891"/>
                  <a:pt x="22437" y="4920"/>
                  <a:pt x="22429" y="4950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607160" y="1847880"/>
            <a:ext cx="752760" cy="163440"/>
          </a:xfrm>
          <a:custGeom>
            <a:avLst/>
            <a:gdLst/>
            <a:ahLst/>
            <a:rect l="l" t="t" r="r" b="b"/>
            <a:pathLst>
              <a:path w="2089" h="453">
                <a:moveTo>
                  <a:pt x="21131" y="5562"/>
                </a:moveTo>
                <a:cubicBezTo>
                  <a:pt x="21131" y="5569"/>
                  <a:pt x="21131" y="5577"/>
                  <a:pt x="21131" y="5584"/>
                </a:cubicBezTo>
                <a:cubicBezTo>
                  <a:pt x="21146" y="5539"/>
                  <a:pt x="21165" y="5494"/>
                  <a:pt x="21187" y="5452"/>
                </a:cubicBezTo>
                <a:cubicBezTo>
                  <a:pt x="21236" y="5360"/>
                  <a:pt x="21299" y="5277"/>
                  <a:pt x="21372" y="5203"/>
                </a:cubicBezTo>
                <a:cubicBezTo>
                  <a:pt x="21402" y="5173"/>
                  <a:pt x="21427" y="5156"/>
                  <a:pt x="21464" y="5139"/>
                </a:cubicBezTo>
                <a:cubicBezTo>
                  <a:pt x="21502" y="5159"/>
                  <a:pt x="21487" y="5194"/>
                  <a:pt x="21479" y="5234"/>
                </a:cubicBezTo>
                <a:cubicBezTo>
                  <a:pt x="21464" y="5312"/>
                  <a:pt x="21441" y="5387"/>
                  <a:pt x="21417" y="5462"/>
                </a:cubicBezTo>
                <a:cubicBezTo>
                  <a:pt x="21406" y="5497"/>
                  <a:pt x="21396" y="5532"/>
                  <a:pt x="21384" y="5567"/>
                </a:cubicBezTo>
              </a:path>
              <a:path w="2089" h="453">
                <a:moveTo>
                  <a:pt x="21288" y="5403"/>
                </a:moveTo>
                <a:cubicBezTo>
                  <a:pt x="21328" y="5386"/>
                  <a:pt x="21371" y="5379"/>
                  <a:pt x="21411" y="5360"/>
                </a:cubicBezTo>
                <a:cubicBezTo>
                  <a:pt x="21470" y="5332"/>
                  <a:pt x="21529" y="5302"/>
                  <a:pt x="21588" y="5274"/>
                </a:cubicBezTo>
              </a:path>
              <a:path w="2089" h="453">
                <a:moveTo>
                  <a:pt x="21848" y="5148"/>
                </a:moveTo>
                <a:cubicBezTo>
                  <a:pt x="21800" y="5172"/>
                  <a:pt x="21750" y="5192"/>
                  <a:pt x="21703" y="5218"/>
                </a:cubicBezTo>
                <a:cubicBezTo>
                  <a:pt x="21662" y="5240"/>
                  <a:pt x="21611" y="5269"/>
                  <a:pt x="21584" y="5309"/>
                </a:cubicBezTo>
                <a:cubicBezTo>
                  <a:pt x="21565" y="5336"/>
                  <a:pt x="21574" y="5357"/>
                  <a:pt x="21598" y="5375"/>
                </a:cubicBezTo>
                <a:cubicBezTo>
                  <a:pt x="21615" y="5387"/>
                  <a:pt x="21673" y="5404"/>
                  <a:pt x="21676" y="5429"/>
                </a:cubicBezTo>
                <a:cubicBezTo>
                  <a:pt x="21679" y="5455"/>
                  <a:pt x="21625" y="5491"/>
                  <a:pt x="21602" y="5475"/>
                </a:cubicBezTo>
                <a:cubicBezTo>
                  <a:pt x="21584" y="5453"/>
                  <a:pt x="21577" y="5448"/>
                  <a:pt x="21585" y="5428"/>
                </a:cubicBezTo>
              </a:path>
              <a:path w="2089" h="453">
                <a:moveTo>
                  <a:pt x="21974" y="5264"/>
                </a:moveTo>
                <a:cubicBezTo>
                  <a:pt x="21997" y="5244"/>
                  <a:pt x="22011" y="5231"/>
                  <a:pt x="22038" y="5219"/>
                </a:cubicBezTo>
                <a:cubicBezTo>
                  <a:pt x="22023" y="5265"/>
                  <a:pt x="22002" y="5306"/>
                  <a:pt x="21982" y="5350"/>
                </a:cubicBezTo>
                <a:cubicBezTo>
                  <a:pt x="21962" y="5395"/>
                  <a:pt x="21945" y="5439"/>
                  <a:pt x="21931" y="5486"/>
                </a:cubicBezTo>
                <a:cubicBezTo>
                  <a:pt x="21944" y="5458"/>
                  <a:pt x="21949" y="5448"/>
                  <a:pt x="21954" y="5428"/>
                </a:cubicBezTo>
              </a:path>
              <a:path w="2089" h="453">
                <a:moveTo>
                  <a:pt x="21969" y="5222"/>
                </a:moveTo>
                <a:cubicBezTo>
                  <a:pt x="21963" y="5189"/>
                  <a:pt x="21947" y="5161"/>
                  <a:pt x="21982" y="5140"/>
                </a:cubicBezTo>
                <a:cubicBezTo>
                  <a:pt x="22009" y="5124"/>
                  <a:pt x="22063" y="5131"/>
                  <a:pt x="22092" y="5133"/>
                </a:cubicBezTo>
                <a:cubicBezTo>
                  <a:pt x="22112" y="5134"/>
                  <a:pt x="22179" y="5134"/>
                  <a:pt x="22190" y="5158"/>
                </a:cubicBezTo>
                <a:cubicBezTo>
                  <a:pt x="22207" y="5193"/>
                  <a:pt x="22157" y="5220"/>
                  <a:pt x="22136" y="5239"/>
                </a:cubicBezTo>
                <a:cubicBezTo>
                  <a:pt x="22110" y="5262"/>
                  <a:pt x="22087" y="5280"/>
                  <a:pt x="22056" y="5295"/>
                </a:cubicBezTo>
              </a:path>
              <a:path w="2089" h="453">
                <a:moveTo>
                  <a:pt x="22241" y="5223"/>
                </a:moveTo>
                <a:cubicBezTo>
                  <a:pt x="22238" y="5263"/>
                  <a:pt x="22227" y="5298"/>
                  <a:pt x="22212" y="5335"/>
                </a:cubicBezTo>
                <a:cubicBezTo>
                  <a:pt x="22196" y="5373"/>
                  <a:pt x="22173" y="5409"/>
                  <a:pt x="22171" y="5451"/>
                </a:cubicBezTo>
                <a:cubicBezTo>
                  <a:pt x="22169" y="5506"/>
                  <a:pt x="22240" y="5470"/>
                  <a:pt x="22261" y="5456"/>
                </a:cubicBezTo>
                <a:cubicBezTo>
                  <a:pt x="22294" y="5435"/>
                  <a:pt x="22316" y="5407"/>
                  <a:pt x="22341" y="5378"/>
                </a:cubicBezTo>
              </a:path>
              <a:path w="2089" h="453">
                <a:moveTo>
                  <a:pt x="22242" y="5273"/>
                </a:moveTo>
                <a:cubicBezTo>
                  <a:pt x="22244" y="5304"/>
                  <a:pt x="22260" y="5322"/>
                  <a:pt x="22295" y="5303"/>
                </a:cubicBezTo>
                <a:cubicBezTo>
                  <a:pt x="22319" y="5291"/>
                  <a:pt x="22339" y="5267"/>
                  <a:pt x="22358" y="5249"/>
                </a:cubicBezTo>
              </a:path>
              <a:path w="2089" h="453">
                <a:moveTo>
                  <a:pt x="22257" y="5152"/>
                </a:moveTo>
                <a:cubicBezTo>
                  <a:pt x="22251" y="5158"/>
                  <a:pt x="22244" y="5163"/>
                  <a:pt x="22238" y="5169"/>
                </a:cubicBezTo>
                <a:cubicBezTo>
                  <a:pt x="22276" y="5192"/>
                  <a:pt x="22307" y="5195"/>
                  <a:pt x="22353" y="5192"/>
                </a:cubicBezTo>
                <a:cubicBezTo>
                  <a:pt x="22400" y="5189"/>
                  <a:pt x="22447" y="5182"/>
                  <a:pt x="22494" y="5179"/>
                </a:cubicBezTo>
              </a:path>
              <a:path w="2089" h="453">
                <a:moveTo>
                  <a:pt x="22656" y="5175"/>
                </a:moveTo>
                <a:cubicBezTo>
                  <a:pt x="22591" y="5222"/>
                  <a:pt x="22527" y="5276"/>
                  <a:pt x="22473" y="5336"/>
                </a:cubicBezTo>
                <a:cubicBezTo>
                  <a:pt x="22456" y="5355"/>
                  <a:pt x="22415" y="5405"/>
                  <a:pt x="22440" y="5434"/>
                </a:cubicBezTo>
                <a:cubicBezTo>
                  <a:pt x="22467" y="5466"/>
                  <a:pt x="22525" y="5444"/>
                  <a:pt x="22555" y="5432"/>
                </a:cubicBezTo>
                <a:cubicBezTo>
                  <a:pt x="22598" y="5415"/>
                  <a:pt x="22633" y="5391"/>
                  <a:pt x="22671" y="5365"/>
                </a:cubicBezTo>
              </a:path>
              <a:path w="2089" h="453">
                <a:moveTo>
                  <a:pt x="22853" y="5228"/>
                </a:moveTo>
                <a:cubicBezTo>
                  <a:pt x="22887" y="5240"/>
                  <a:pt x="22858" y="5263"/>
                  <a:pt x="22840" y="5292"/>
                </a:cubicBezTo>
                <a:cubicBezTo>
                  <a:pt x="22814" y="5335"/>
                  <a:pt x="22789" y="5378"/>
                  <a:pt x="22767" y="5423"/>
                </a:cubicBezTo>
                <a:cubicBezTo>
                  <a:pt x="22753" y="5453"/>
                  <a:pt x="22754" y="5479"/>
                  <a:pt x="22739" y="5450"/>
                </a:cubicBezTo>
              </a:path>
              <a:path w="2089" h="453">
                <a:moveTo>
                  <a:pt x="22659" y="5217"/>
                </a:moveTo>
                <a:cubicBezTo>
                  <a:pt x="22702" y="5194"/>
                  <a:pt x="22744" y="5195"/>
                  <a:pt x="22794" y="5189"/>
                </a:cubicBezTo>
                <a:cubicBezTo>
                  <a:pt x="22867" y="5180"/>
                  <a:pt x="22940" y="5178"/>
                  <a:pt x="23014" y="5176"/>
                </a:cubicBezTo>
                <a:cubicBezTo>
                  <a:pt x="23082" y="5174"/>
                  <a:pt x="23151" y="5170"/>
                  <a:pt x="23219" y="516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521400" y="5576760"/>
            <a:ext cx="836640" cy="155880"/>
          </a:xfrm>
          <a:custGeom>
            <a:avLst/>
            <a:gdLst/>
            <a:ahLst/>
            <a:rect l="l" t="t" r="r" b="b"/>
            <a:pathLst>
              <a:path w="2324" h="431">
                <a:moveTo>
                  <a:pt x="18244" y="15602"/>
                </a:moveTo>
                <a:cubicBezTo>
                  <a:pt x="18250" y="15642"/>
                  <a:pt x="18237" y="15681"/>
                  <a:pt x="18228" y="15722"/>
                </a:cubicBezTo>
                <a:cubicBezTo>
                  <a:pt x="18216" y="15780"/>
                  <a:pt x="18209" y="15838"/>
                  <a:pt x="18198" y="15896"/>
                </a:cubicBezTo>
                <a:cubicBezTo>
                  <a:pt x="18196" y="15904"/>
                  <a:pt x="18194" y="15913"/>
                  <a:pt x="18192" y="15921"/>
                </a:cubicBezTo>
              </a:path>
              <a:path w="2324" h="431">
                <a:moveTo>
                  <a:pt x="18114" y="15542"/>
                </a:moveTo>
                <a:cubicBezTo>
                  <a:pt x="18133" y="15513"/>
                  <a:pt x="18158" y="15506"/>
                  <a:pt x="18195" y="15499"/>
                </a:cubicBezTo>
                <a:cubicBezTo>
                  <a:pt x="18249" y="15489"/>
                  <a:pt x="18306" y="15489"/>
                  <a:pt x="18360" y="15496"/>
                </a:cubicBezTo>
                <a:cubicBezTo>
                  <a:pt x="18395" y="15501"/>
                  <a:pt x="18454" y="15509"/>
                  <a:pt x="18477" y="15541"/>
                </a:cubicBezTo>
                <a:cubicBezTo>
                  <a:pt x="18495" y="15566"/>
                  <a:pt x="18465" y="15603"/>
                  <a:pt x="18447" y="15618"/>
                </a:cubicBezTo>
                <a:cubicBezTo>
                  <a:pt x="18420" y="15640"/>
                  <a:pt x="18386" y="15657"/>
                  <a:pt x="18350" y="15656"/>
                </a:cubicBezTo>
                <a:cubicBezTo>
                  <a:pt x="18345" y="15655"/>
                  <a:pt x="18339" y="15654"/>
                  <a:pt x="18334" y="15653"/>
                </a:cubicBezTo>
              </a:path>
              <a:path w="2324" h="431">
                <a:moveTo>
                  <a:pt x="18702" y="15619"/>
                </a:moveTo>
                <a:cubicBezTo>
                  <a:pt x="18722" y="15588"/>
                  <a:pt x="18737" y="15567"/>
                  <a:pt x="18739" y="15530"/>
                </a:cubicBezTo>
                <a:cubicBezTo>
                  <a:pt x="18684" y="15521"/>
                  <a:pt x="18654" y="15551"/>
                  <a:pt x="18614" y="15594"/>
                </a:cubicBezTo>
                <a:cubicBezTo>
                  <a:pt x="18563" y="15649"/>
                  <a:pt x="18519" y="15715"/>
                  <a:pt x="18490" y="15784"/>
                </a:cubicBezTo>
                <a:cubicBezTo>
                  <a:pt x="18479" y="15817"/>
                  <a:pt x="18475" y="15825"/>
                  <a:pt x="18480" y="15847"/>
                </a:cubicBezTo>
                <a:cubicBezTo>
                  <a:pt x="18522" y="15865"/>
                  <a:pt x="18550" y="15841"/>
                  <a:pt x="18585" y="15810"/>
                </a:cubicBezTo>
                <a:cubicBezTo>
                  <a:pt x="18632" y="15768"/>
                  <a:pt x="18673" y="15715"/>
                  <a:pt x="18699" y="15657"/>
                </a:cubicBezTo>
                <a:cubicBezTo>
                  <a:pt x="18712" y="15628"/>
                  <a:pt x="18724" y="15585"/>
                  <a:pt x="18697" y="15560"/>
                </a:cubicBezTo>
                <a:cubicBezTo>
                  <a:pt x="18689" y="15555"/>
                  <a:pt x="18682" y="15550"/>
                  <a:pt x="18674" y="15545"/>
                </a:cubicBezTo>
              </a:path>
              <a:path w="2324" h="431">
                <a:moveTo>
                  <a:pt x="18855" y="15593"/>
                </a:moveTo>
                <a:cubicBezTo>
                  <a:pt x="18848" y="15640"/>
                  <a:pt x="18829" y="15678"/>
                  <a:pt x="18811" y="15722"/>
                </a:cubicBezTo>
                <a:cubicBezTo>
                  <a:pt x="18790" y="15771"/>
                  <a:pt x="18767" y="15820"/>
                  <a:pt x="18748" y="15870"/>
                </a:cubicBezTo>
              </a:path>
              <a:path w="2324" h="431">
                <a:moveTo>
                  <a:pt x="19073" y="15548"/>
                </a:moveTo>
                <a:cubicBezTo>
                  <a:pt x="19057" y="15593"/>
                  <a:pt x="19037" y="15628"/>
                  <a:pt x="19010" y="15667"/>
                </a:cubicBezTo>
                <a:cubicBezTo>
                  <a:pt x="18983" y="15706"/>
                  <a:pt x="18956" y="15745"/>
                  <a:pt x="18927" y="15783"/>
                </a:cubicBezTo>
                <a:cubicBezTo>
                  <a:pt x="18922" y="15789"/>
                  <a:pt x="18918" y="15795"/>
                  <a:pt x="18913" y="15801"/>
                </a:cubicBezTo>
                <a:cubicBezTo>
                  <a:pt x="18934" y="15762"/>
                  <a:pt x="18958" y="15728"/>
                  <a:pt x="18985" y="15693"/>
                </a:cubicBezTo>
                <a:cubicBezTo>
                  <a:pt x="19010" y="15660"/>
                  <a:pt x="19029" y="15634"/>
                  <a:pt x="19066" y="15618"/>
                </a:cubicBezTo>
                <a:cubicBezTo>
                  <a:pt x="19055" y="15656"/>
                  <a:pt x="19036" y="15693"/>
                  <a:pt x="19028" y="15732"/>
                </a:cubicBezTo>
                <a:cubicBezTo>
                  <a:pt x="19026" y="15752"/>
                  <a:pt x="19025" y="15758"/>
                  <a:pt x="19031" y="15770"/>
                </a:cubicBezTo>
                <a:cubicBezTo>
                  <a:pt x="19084" y="15771"/>
                  <a:pt x="19107" y="15758"/>
                  <a:pt x="19149" y="15722"/>
                </a:cubicBezTo>
                <a:cubicBezTo>
                  <a:pt x="19177" y="15698"/>
                  <a:pt x="19200" y="15669"/>
                  <a:pt x="19225" y="15641"/>
                </a:cubicBezTo>
              </a:path>
              <a:path w="2324" h="431">
                <a:moveTo>
                  <a:pt x="19335" y="15546"/>
                </a:moveTo>
                <a:cubicBezTo>
                  <a:pt x="19356" y="15561"/>
                  <a:pt x="19370" y="15572"/>
                  <a:pt x="19364" y="15602"/>
                </a:cubicBezTo>
                <a:cubicBezTo>
                  <a:pt x="19354" y="15651"/>
                  <a:pt x="19331" y="15701"/>
                  <a:pt x="19312" y="15747"/>
                </a:cubicBezTo>
                <a:cubicBezTo>
                  <a:pt x="19306" y="15761"/>
                  <a:pt x="19260" y="15887"/>
                  <a:pt x="19289" y="15800"/>
                </a:cubicBezTo>
              </a:path>
              <a:path w="2324" h="431">
                <a:moveTo>
                  <a:pt x="19260" y="15575"/>
                </a:moveTo>
                <a:cubicBezTo>
                  <a:pt x="19254" y="15544"/>
                  <a:pt x="19286" y="15546"/>
                  <a:pt x="19325" y="15541"/>
                </a:cubicBezTo>
                <a:cubicBezTo>
                  <a:pt x="19374" y="15534"/>
                  <a:pt x="19424" y="15534"/>
                  <a:pt x="19474" y="15535"/>
                </a:cubicBezTo>
                <a:cubicBezTo>
                  <a:pt x="19487" y="15535"/>
                  <a:pt x="19500" y="15536"/>
                  <a:pt x="19513" y="15536"/>
                </a:cubicBezTo>
              </a:path>
              <a:path w="2324" h="431">
                <a:moveTo>
                  <a:pt x="19751" y="15521"/>
                </a:moveTo>
                <a:cubicBezTo>
                  <a:pt x="19706" y="15560"/>
                  <a:pt x="19666" y="15600"/>
                  <a:pt x="19633" y="15650"/>
                </a:cubicBezTo>
                <a:cubicBezTo>
                  <a:pt x="19598" y="15704"/>
                  <a:pt x="19560" y="15768"/>
                  <a:pt x="19548" y="15832"/>
                </a:cubicBezTo>
                <a:cubicBezTo>
                  <a:pt x="19539" y="15876"/>
                  <a:pt x="19561" y="15910"/>
                  <a:pt x="19609" y="15892"/>
                </a:cubicBezTo>
                <a:cubicBezTo>
                  <a:pt x="19671" y="15869"/>
                  <a:pt x="19723" y="15811"/>
                  <a:pt x="19770" y="15768"/>
                </a:cubicBezTo>
              </a:path>
              <a:path w="2324" h="431">
                <a:moveTo>
                  <a:pt x="19927" y="15563"/>
                </a:moveTo>
                <a:cubicBezTo>
                  <a:pt x="19951" y="15599"/>
                  <a:pt x="19917" y="15620"/>
                  <a:pt x="19896" y="15658"/>
                </a:cubicBezTo>
                <a:cubicBezTo>
                  <a:pt x="19873" y="15700"/>
                  <a:pt x="19849" y="15751"/>
                  <a:pt x="19844" y="15799"/>
                </a:cubicBezTo>
                <a:cubicBezTo>
                  <a:pt x="19839" y="15845"/>
                  <a:pt x="19870" y="15854"/>
                  <a:pt x="19908" y="15840"/>
                </a:cubicBezTo>
                <a:cubicBezTo>
                  <a:pt x="19993" y="15810"/>
                  <a:pt x="20078" y="15732"/>
                  <a:pt x="20129" y="15660"/>
                </a:cubicBezTo>
                <a:cubicBezTo>
                  <a:pt x="20145" y="15637"/>
                  <a:pt x="20152" y="15618"/>
                  <a:pt x="20158" y="15591"/>
                </a:cubicBezTo>
              </a:path>
              <a:path w="2324" h="431">
                <a:moveTo>
                  <a:pt x="20215" y="15559"/>
                </a:moveTo>
                <a:cubicBezTo>
                  <a:pt x="20229" y="15600"/>
                  <a:pt x="20220" y="15615"/>
                  <a:pt x="20206" y="15657"/>
                </a:cubicBezTo>
                <a:cubicBezTo>
                  <a:pt x="20188" y="15710"/>
                  <a:pt x="20170" y="15761"/>
                  <a:pt x="20166" y="15817"/>
                </a:cubicBezTo>
                <a:cubicBezTo>
                  <a:pt x="20162" y="15870"/>
                  <a:pt x="20164" y="15878"/>
                  <a:pt x="20182" y="15825"/>
                </a:cubicBezTo>
              </a:path>
              <a:path w="2324" h="431">
                <a:moveTo>
                  <a:pt x="20129" y="15573"/>
                </a:moveTo>
                <a:cubicBezTo>
                  <a:pt x="20167" y="15569"/>
                  <a:pt x="20203" y="15564"/>
                  <a:pt x="20241" y="15556"/>
                </a:cubicBezTo>
                <a:cubicBezTo>
                  <a:pt x="20306" y="15542"/>
                  <a:pt x="20371" y="15535"/>
                  <a:pt x="20437" y="1552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7494480" y="5557680"/>
            <a:ext cx="770040" cy="203400"/>
          </a:xfrm>
          <a:custGeom>
            <a:avLst/>
            <a:gdLst/>
            <a:ahLst/>
            <a:rect l="l" t="t" r="r" b="b"/>
            <a:pathLst>
              <a:path w="2142" h="565">
                <a:moveTo>
                  <a:pt x="20935" y="15563"/>
                </a:moveTo>
                <a:cubicBezTo>
                  <a:pt x="20953" y="15547"/>
                  <a:pt x="20959" y="15542"/>
                  <a:pt x="20967" y="15528"/>
                </a:cubicBezTo>
                <a:cubicBezTo>
                  <a:pt x="20923" y="15555"/>
                  <a:pt x="20898" y="15590"/>
                  <a:pt x="20874" y="15637"/>
                </a:cubicBezTo>
                <a:cubicBezTo>
                  <a:pt x="20845" y="15693"/>
                  <a:pt x="20809" y="15768"/>
                  <a:pt x="20817" y="15833"/>
                </a:cubicBezTo>
                <a:cubicBezTo>
                  <a:pt x="20825" y="15897"/>
                  <a:pt x="20886" y="15889"/>
                  <a:pt x="20929" y="15866"/>
                </a:cubicBezTo>
                <a:cubicBezTo>
                  <a:pt x="21023" y="15815"/>
                  <a:pt x="21117" y="15716"/>
                  <a:pt x="21169" y="15624"/>
                </a:cubicBezTo>
                <a:cubicBezTo>
                  <a:pt x="21183" y="15600"/>
                  <a:pt x="21191" y="15575"/>
                  <a:pt x="21200" y="15549"/>
                </a:cubicBezTo>
              </a:path>
              <a:path w="2142" h="565">
                <a:moveTo>
                  <a:pt x="21404" y="15508"/>
                </a:moveTo>
                <a:cubicBezTo>
                  <a:pt x="21442" y="15489"/>
                  <a:pt x="21479" y="15474"/>
                  <a:pt x="21500" y="15437"/>
                </a:cubicBezTo>
                <a:cubicBezTo>
                  <a:pt x="21432" y="15473"/>
                  <a:pt x="21369" y="15520"/>
                  <a:pt x="21311" y="15571"/>
                </a:cubicBezTo>
                <a:cubicBezTo>
                  <a:pt x="21287" y="15592"/>
                  <a:pt x="21232" y="15633"/>
                  <a:pt x="21250" y="15672"/>
                </a:cubicBezTo>
                <a:cubicBezTo>
                  <a:pt x="21265" y="15705"/>
                  <a:pt x="21328" y="15712"/>
                  <a:pt x="21358" y="15721"/>
                </a:cubicBezTo>
                <a:cubicBezTo>
                  <a:pt x="21381" y="15728"/>
                  <a:pt x="21442" y="15738"/>
                  <a:pt x="21434" y="15775"/>
                </a:cubicBezTo>
                <a:cubicBezTo>
                  <a:pt x="21426" y="15810"/>
                  <a:pt x="21370" y="15838"/>
                  <a:pt x="21342" y="15852"/>
                </a:cubicBezTo>
                <a:cubicBezTo>
                  <a:pt x="21310" y="15868"/>
                  <a:pt x="21279" y="15874"/>
                  <a:pt x="21244" y="15876"/>
                </a:cubicBezTo>
              </a:path>
              <a:path w="2142" h="565">
                <a:moveTo>
                  <a:pt x="21445" y="15979"/>
                </a:moveTo>
                <a:cubicBezTo>
                  <a:pt x="21386" y="16021"/>
                  <a:pt x="21473" y="15915"/>
                  <a:pt x="21486" y="15895"/>
                </a:cubicBezTo>
                <a:cubicBezTo>
                  <a:pt x="21560" y="15783"/>
                  <a:pt x="21651" y="15678"/>
                  <a:pt x="21755" y="15592"/>
                </a:cubicBezTo>
                <a:cubicBezTo>
                  <a:pt x="21801" y="15554"/>
                  <a:pt x="21845" y="15525"/>
                  <a:pt x="21904" y="15521"/>
                </a:cubicBezTo>
                <a:cubicBezTo>
                  <a:pt x="21911" y="15597"/>
                  <a:pt x="21885" y="15645"/>
                  <a:pt x="21849" y="15715"/>
                </a:cubicBezTo>
                <a:cubicBezTo>
                  <a:pt x="21806" y="15800"/>
                  <a:pt x="21764" y="15886"/>
                  <a:pt x="21712" y="15966"/>
                </a:cubicBezTo>
              </a:path>
              <a:path w="2142" h="565">
                <a:moveTo>
                  <a:pt x="21614" y="15778"/>
                </a:moveTo>
                <a:cubicBezTo>
                  <a:pt x="21597" y="15735"/>
                  <a:pt x="21613" y="15740"/>
                  <a:pt x="21652" y="15727"/>
                </a:cubicBezTo>
                <a:cubicBezTo>
                  <a:pt x="21702" y="15710"/>
                  <a:pt x="21754" y="15700"/>
                  <a:pt x="21806" y="15688"/>
                </a:cubicBezTo>
                <a:cubicBezTo>
                  <a:pt x="21822" y="15684"/>
                  <a:pt x="21838" y="15681"/>
                  <a:pt x="21854" y="15677"/>
                </a:cubicBezTo>
              </a:path>
              <a:path w="2142" h="565">
                <a:moveTo>
                  <a:pt x="22186" y="15572"/>
                </a:moveTo>
                <a:cubicBezTo>
                  <a:pt x="22224" y="15595"/>
                  <a:pt x="22168" y="15621"/>
                  <a:pt x="22138" y="15651"/>
                </a:cubicBezTo>
                <a:cubicBezTo>
                  <a:pt x="22080" y="15710"/>
                  <a:pt x="22025" y="15775"/>
                  <a:pt x="21978" y="15843"/>
                </a:cubicBezTo>
                <a:cubicBezTo>
                  <a:pt x="21946" y="15889"/>
                  <a:pt x="21928" y="15927"/>
                  <a:pt x="21937" y="15981"/>
                </a:cubicBezTo>
                <a:cubicBezTo>
                  <a:pt x="21975" y="15992"/>
                  <a:pt x="22002" y="15982"/>
                  <a:pt x="22035" y="15957"/>
                </a:cubicBezTo>
                <a:cubicBezTo>
                  <a:pt x="22067" y="15934"/>
                  <a:pt x="22098" y="15899"/>
                  <a:pt x="22103" y="15858"/>
                </a:cubicBezTo>
                <a:cubicBezTo>
                  <a:pt x="22102" y="15839"/>
                  <a:pt x="22101" y="15833"/>
                  <a:pt x="22093" y="15822"/>
                </a:cubicBezTo>
                <a:cubicBezTo>
                  <a:pt x="22055" y="15842"/>
                  <a:pt x="22133" y="15826"/>
                  <a:pt x="22146" y="15821"/>
                </a:cubicBezTo>
                <a:cubicBezTo>
                  <a:pt x="22191" y="15803"/>
                  <a:pt x="22233" y="15778"/>
                  <a:pt x="22274" y="15752"/>
                </a:cubicBezTo>
              </a:path>
              <a:path w="2142" h="565">
                <a:moveTo>
                  <a:pt x="22455" y="15656"/>
                </a:moveTo>
                <a:cubicBezTo>
                  <a:pt x="22462" y="15702"/>
                  <a:pt x="22457" y="15724"/>
                  <a:pt x="22431" y="15765"/>
                </a:cubicBezTo>
                <a:cubicBezTo>
                  <a:pt x="22405" y="15807"/>
                  <a:pt x="22373" y="15845"/>
                  <a:pt x="22350" y="15889"/>
                </a:cubicBezTo>
                <a:cubicBezTo>
                  <a:pt x="22341" y="15909"/>
                  <a:pt x="22338" y="15914"/>
                  <a:pt x="22341" y="15928"/>
                </a:cubicBezTo>
                <a:cubicBezTo>
                  <a:pt x="22391" y="15939"/>
                  <a:pt x="22412" y="15930"/>
                  <a:pt x="22457" y="15901"/>
                </a:cubicBezTo>
                <a:cubicBezTo>
                  <a:pt x="22487" y="15880"/>
                  <a:pt x="22497" y="15873"/>
                  <a:pt x="22515" y="15856"/>
                </a:cubicBezTo>
              </a:path>
              <a:path w="2142" h="565">
                <a:moveTo>
                  <a:pt x="22509" y="15768"/>
                </a:moveTo>
                <a:cubicBezTo>
                  <a:pt x="22495" y="15787"/>
                  <a:pt x="22486" y="15803"/>
                  <a:pt x="22476" y="15824"/>
                </a:cubicBezTo>
                <a:cubicBezTo>
                  <a:pt x="22504" y="15828"/>
                  <a:pt x="22534" y="15827"/>
                  <a:pt x="22561" y="15814"/>
                </a:cubicBezTo>
                <a:cubicBezTo>
                  <a:pt x="22589" y="15800"/>
                  <a:pt x="22622" y="15772"/>
                  <a:pt x="22637" y="15745"/>
                </a:cubicBezTo>
                <a:cubicBezTo>
                  <a:pt x="22639" y="15739"/>
                  <a:pt x="22642" y="15732"/>
                  <a:pt x="22644" y="15726"/>
                </a:cubicBezTo>
              </a:path>
              <a:path w="2142" h="565">
                <a:moveTo>
                  <a:pt x="22492" y="15624"/>
                </a:moveTo>
                <a:cubicBezTo>
                  <a:pt x="22540" y="15621"/>
                  <a:pt x="22580" y="15604"/>
                  <a:pt x="22628" y="15596"/>
                </a:cubicBezTo>
                <a:cubicBezTo>
                  <a:pt x="22698" y="15585"/>
                  <a:pt x="22769" y="15576"/>
                  <a:pt x="22840" y="15566"/>
                </a:cubicBezTo>
                <a:cubicBezTo>
                  <a:pt x="22899" y="15557"/>
                  <a:pt x="22919" y="15554"/>
                  <a:pt x="22958" y="1554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7545240" y="6130800"/>
            <a:ext cx="1154160" cy="158760"/>
          </a:xfrm>
          <a:custGeom>
            <a:avLst/>
            <a:gdLst/>
            <a:ahLst/>
            <a:rect l="l" t="t" r="r" b="b"/>
            <a:pathLst>
              <a:path w="3207" h="440">
                <a:moveTo>
                  <a:pt x="20988" y="17113"/>
                </a:moveTo>
                <a:cubicBezTo>
                  <a:pt x="20984" y="17118"/>
                  <a:pt x="20979" y="17124"/>
                  <a:pt x="20975" y="17129"/>
                </a:cubicBezTo>
                <a:cubicBezTo>
                  <a:pt x="21003" y="17146"/>
                  <a:pt x="21018" y="17144"/>
                  <a:pt x="21051" y="17137"/>
                </a:cubicBezTo>
                <a:cubicBezTo>
                  <a:pt x="21108" y="17124"/>
                  <a:pt x="21161" y="17100"/>
                  <a:pt x="21217" y="17085"/>
                </a:cubicBezTo>
                <a:cubicBezTo>
                  <a:pt x="21174" y="17124"/>
                  <a:pt x="21120" y="17166"/>
                  <a:pt x="21096" y="17221"/>
                </a:cubicBezTo>
                <a:cubicBezTo>
                  <a:pt x="21076" y="17268"/>
                  <a:pt x="21082" y="17314"/>
                  <a:pt x="21074" y="17362"/>
                </a:cubicBezTo>
                <a:cubicBezTo>
                  <a:pt x="21067" y="17399"/>
                  <a:pt x="21037" y="17410"/>
                  <a:pt x="21002" y="17402"/>
                </a:cubicBezTo>
                <a:cubicBezTo>
                  <a:pt x="20978" y="17397"/>
                  <a:pt x="20970" y="17382"/>
                  <a:pt x="20958" y="17364"/>
                </a:cubicBezTo>
              </a:path>
              <a:path w="3207" h="440">
                <a:moveTo>
                  <a:pt x="21486" y="17110"/>
                </a:moveTo>
                <a:cubicBezTo>
                  <a:pt x="21443" y="17116"/>
                  <a:pt x="21415" y="17137"/>
                  <a:pt x="21382" y="17168"/>
                </a:cubicBezTo>
                <a:cubicBezTo>
                  <a:pt x="21340" y="17207"/>
                  <a:pt x="21285" y="17269"/>
                  <a:pt x="21286" y="17330"/>
                </a:cubicBezTo>
                <a:cubicBezTo>
                  <a:pt x="21287" y="17375"/>
                  <a:pt x="21334" y="17362"/>
                  <a:pt x="21360" y="17350"/>
                </a:cubicBezTo>
                <a:cubicBezTo>
                  <a:pt x="21408" y="17327"/>
                  <a:pt x="21447" y="17283"/>
                  <a:pt x="21475" y="17238"/>
                </a:cubicBezTo>
                <a:cubicBezTo>
                  <a:pt x="21494" y="17208"/>
                  <a:pt x="21513" y="17160"/>
                  <a:pt x="21488" y="17127"/>
                </a:cubicBezTo>
                <a:cubicBezTo>
                  <a:pt x="21470" y="17103"/>
                  <a:pt x="21435" y="17111"/>
                  <a:pt x="21411" y="17119"/>
                </a:cubicBezTo>
                <a:cubicBezTo>
                  <a:pt x="21389" y="17128"/>
                  <a:pt x="21380" y="17133"/>
                  <a:pt x="21371" y="17149"/>
                </a:cubicBezTo>
              </a:path>
              <a:path w="3207" h="440">
                <a:moveTo>
                  <a:pt x="21708" y="17091"/>
                </a:moveTo>
                <a:cubicBezTo>
                  <a:pt x="21699" y="17134"/>
                  <a:pt x="21680" y="17165"/>
                  <a:pt x="21659" y="17204"/>
                </a:cubicBezTo>
                <a:cubicBezTo>
                  <a:pt x="21629" y="17260"/>
                  <a:pt x="21596" y="17315"/>
                  <a:pt x="21573" y="17374"/>
                </a:cubicBezTo>
                <a:cubicBezTo>
                  <a:pt x="21567" y="17393"/>
                  <a:pt x="21567" y="17396"/>
                  <a:pt x="21582" y="17367"/>
                </a:cubicBezTo>
              </a:path>
              <a:path w="3207" h="440">
                <a:moveTo>
                  <a:pt x="21843" y="17121"/>
                </a:moveTo>
                <a:cubicBezTo>
                  <a:pt x="21858" y="17157"/>
                  <a:pt x="21851" y="17176"/>
                  <a:pt x="21832" y="17212"/>
                </a:cubicBezTo>
                <a:cubicBezTo>
                  <a:pt x="21809" y="17255"/>
                  <a:pt x="21780" y="17295"/>
                  <a:pt x="21753" y="17335"/>
                </a:cubicBezTo>
                <a:cubicBezTo>
                  <a:pt x="21740" y="17354"/>
                  <a:pt x="21737" y="17359"/>
                  <a:pt x="21728" y="17371"/>
                </a:cubicBezTo>
                <a:cubicBezTo>
                  <a:pt x="21766" y="17336"/>
                  <a:pt x="21798" y="17298"/>
                  <a:pt x="21833" y="17260"/>
                </a:cubicBezTo>
                <a:cubicBezTo>
                  <a:pt x="21864" y="17227"/>
                  <a:pt x="21894" y="17196"/>
                  <a:pt x="21930" y="17170"/>
                </a:cubicBezTo>
                <a:cubicBezTo>
                  <a:pt x="21931" y="17213"/>
                  <a:pt x="21918" y="17242"/>
                  <a:pt x="21908" y="17284"/>
                </a:cubicBezTo>
                <a:cubicBezTo>
                  <a:pt x="21903" y="17306"/>
                  <a:pt x="21902" y="17312"/>
                  <a:pt x="21905" y="17327"/>
                </a:cubicBezTo>
                <a:cubicBezTo>
                  <a:pt x="21934" y="17341"/>
                  <a:pt x="21959" y="17339"/>
                  <a:pt x="21988" y="17316"/>
                </a:cubicBezTo>
                <a:cubicBezTo>
                  <a:pt x="22019" y="17292"/>
                  <a:pt x="22041" y="17248"/>
                  <a:pt x="22060" y="17215"/>
                </a:cubicBezTo>
                <a:cubicBezTo>
                  <a:pt x="22065" y="17205"/>
                  <a:pt x="22071" y="17195"/>
                  <a:pt x="22076" y="17185"/>
                </a:cubicBezTo>
              </a:path>
              <a:path w="3207" h="440">
                <a:moveTo>
                  <a:pt x="22237" y="17183"/>
                </a:moveTo>
                <a:cubicBezTo>
                  <a:pt x="22243" y="17175"/>
                  <a:pt x="22248" y="17168"/>
                  <a:pt x="22254" y="17160"/>
                </a:cubicBezTo>
                <a:cubicBezTo>
                  <a:pt x="22268" y="17201"/>
                  <a:pt x="22257" y="17227"/>
                  <a:pt x="22247" y="17271"/>
                </a:cubicBezTo>
                <a:cubicBezTo>
                  <a:pt x="22238" y="17308"/>
                  <a:pt x="22224" y="17416"/>
                  <a:pt x="22218" y="17379"/>
                </a:cubicBezTo>
                <a:cubicBezTo>
                  <a:pt x="22220" y="17371"/>
                  <a:pt x="22221" y="17363"/>
                  <a:pt x="22223" y="17355"/>
                </a:cubicBezTo>
              </a:path>
              <a:path w="3207" h="440">
                <a:moveTo>
                  <a:pt x="22229" y="17061"/>
                </a:moveTo>
                <a:cubicBezTo>
                  <a:pt x="22233" y="17025"/>
                  <a:pt x="22269" y="17034"/>
                  <a:pt x="22314" y="17038"/>
                </a:cubicBezTo>
                <a:cubicBezTo>
                  <a:pt x="22367" y="17043"/>
                  <a:pt x="22419" y="17055"/>
                  <a:pt x="22469" y="17072"/>
                </a:cubicBezTo>
                <a:cubicBezTo>
                  <a:pt x="22495" y="17082"/>
                  <a:pt x="22501" y="17083"/>
                  <a:pt x="22515" y="17094"/>
                </a:cubicBezTo>
                <a:cubicBezTo>
                  <a:pt x="22508" y="17133"/>
                  <a:pt x="22492" y="17136"/>
                  <a:pt x="22452" y="17149"/>
                </a:cubicBezTo>
                <a:cubicBezTo>
                  <a:pt x="22417" y="17160"/>
                  <a:pt x="22384" y="17159"/>
                  <a:pt x="22348" y="17157"/>
                </a:cubicBezTo>
              </a:path>
              <a:path w="3207" h="440">
                <a:moveTo>
                  <a:pt x="22689" y="17148"/>
                </a:moveTo>
                <a:cubicBezTo>
                  <a:pt x="22689" y="17141"/>
                  <a:pt x="22689" y="17134"/>
                  <a:pt x="22689" y="17127"/>
                </a:cubicBezTo>
                <a:cubicBezTo>
                  <a:pt x="22651" y="17124"/>
                  <a:pt x="22637" y="17142"/>
                  <a:pt x="22614" y="17174"/>
                </a:cubicBezTo>
                <a:cubicBezTo>
                  <a:pt x="22584" y="17214"/>
                  <a:pt x="22543" y="17283"/>
                  <a:pt x="22548" y="17336"/>
                </a:cubicBezTo>
                <a:cubicBezTo>
                  <a:pt x="22550" y="17342"/>
                  <a:pt x="22553" y="17347"/>
                  <a:pt x="22555" y="17353"/>
                </a:cubicBezTo>
                <a:cubicBezTo>
                  <a:pt x="22598" y="17358"/>
                  <a:pt x="22628" y="17334"/>
                  <a:pt x="22662" y="17305"/>
                </a:cubicBezTo>
                <a:cubicBezTo>
                  <a:pt x="22710" y="17264"/>
                  <a:pt x="22756" y="17216"/>
                  <a:pt x="22783" y="17159"/>
                </a:cubicBezTo>
                <a:cubicBezTo>
                  <a:pt x="22796" y="17131"/>
                  <a:pt x="22806" y="17089"/>
                  <a:pt x="22770" y="17075"/>
                </a:cubicBezTo>
                <a:cubicBezTo>
                  <a:pt x="22743" y="17065"/>
                  <a:pt x="22716" y="17076"/>
                  <a:pt x="22693" y="17087"/>
                </a:cubicBezTo>
              </a:path>
              <a:path w="3207" h="440">
                <a:moveTo>
                  <a:pt x="23015" y="17108"/>
                </a:moveTo>
                <a:cubicBezTo>
                  <a:pt x="22998" y="17145"/>
                  <a:pt x="22978" y="17179"/>
                  <a:pt x="22962" y="17216"/>
                </a:cubicBezTo>
                <a:cubicBezTo>
                  <a:pt x="22948" y="17249"/>
                  <a:pt x="22937" y="17283"/>
                  <a:pt x="22927" y="17318"/>
                </a:cubicBezTo>
              </a:path>
              <a:path w="3207" h="440">
                <a:moveTo>
                  <a:pt x="23142" y="17150"/>
                </a:moveTo>
                <a:cubicBezTo>
                  <a:pt x="23125" y="17197"/>
                  <a:pt x="23105" y="17237"/>
                  <a:pt x="23078" y="17279"/>
                </a:cubicBezTo>
                <a:cubicBezTo>
                  <a:pt x="23060" y="17307"/>
                  <a:pt x="23041" y="17334"/>
                  <a:pt x="23026" y="17364"/>
                </a:cubicBezTo>
                <a:cubicBezTo>
                  <a:pt x="23055" y="17346"/>
                  <a:pt x="23078" y="17324"/>
                  <a:pt x="23102" y="17299"/>
                </a:cubicBezTo>
                <a:cubicBezTo>
                  <a:pt x="23136" y="17263"/>
                  <a:pt x="23169" y="17226"/>
                  <a:pt x="23203" y="17190"/>
                </a:cubicBezTo>
                <a:cubicBezTo>
                  <a:pt x="23223" y="17170"/>
                  <a:pt x="23229" y="17164"/>
                  <a:pt x="23245" y="17155"/>
                </a:cubicBezTo>
                <a:cubicBezTo>
                  <a:pt x="23243" y="17189"/>
                  <a:pt x="23230" y="17217"/>
                  <a:pt x="23223" y="17251"/>
                </a:cubicBezTo>
                <a:cubicBezTo>
                  <a:pt x="23213" y="17296"/>
                  <a:pt x="23233" y="17316"/>
                  <a:pt x="23280" y="17304"/>
                </a:cubicBezTo>
                <a:cubicBezTo>
                  <a:pt x="23333" y="17290"/>
                  <a:pt x="23386" y="17248"/>
                  <a:pt x="23430" y="17216"/>
                </a:cubicBezTo>
                <a:cubicBezTo>
                  <a:pt x="23474" y="17184"/>
                  <a:pt x="23509" y="17146"/>
                  <a:pt x="23538" y="17100"/>
                </a:cubicBezTo>
              </a:path>
              <a:path w="3207" h="440">
                <a:moveTo>
                  <a:pt x="23610" y="17064"/>
                </a:moveTo>
                <a:cubicBezTo>
                  <a:pt x="23644" y="17088"/>
                  <a:pt x="23654" y="17106"/>
                  <a:pt x="23640" y="17151"/>
                </a:cubicBezTo>
                <a:cubicBezTo>
                  <a:pt x="23626" y="17195"/>
                  <a:pt x="23604" y="17237"/>
                  <a:pt x="23593" y="17283"/>
                </a:cubicBezTo>
                <a:cubicBezTo>
                  <a:pt x="23581" y="17330"/>
                  <a:pt x="23588" y="17345"/>
                  <a:pt x="23615" y="17300"/>
                </a:cubicBezTo>
              </a:path>
              <a:path w="3207" h="440">
                <a:moveTo>
                  <a:pt x="23524" y="17113"/>
                </a:moveTo>
                <a:cubicBezTo>
                  <a:pt x="23516" y="17114"/>
                  <a:pt x="23508" y="17114"/>
                  <a:pt x="23500" y="17115"/>
                </a:cubicBezTo>
                <a:cubicBezTo>
                  <a:pt x="23542" y="17102"/>
                  <a:pt x="23586" y="17091"/>
                  <a:pt x="23629" y="17080"/>
                </a:cubicBezTo>
                <a:cubicBezTo>
                  <a:pt x="23696" y="17064"/>
                  <a:pt x="23764" y="17055"/>
                  <a:pt x="23832" y="17047"/>
                </a:cubicBezTo>
              </a:path>
              <a:path w="3207" h="440">
                <a:moveTo>
                  <a:pt x="24161" y="17030"/>
                </a:moveTo>
                <a:cubicBezTo>
                  <a:pt x="24149" y="17059"/>
                  <a:pt x="24116" y="17049"/>
                  <a:pt x="24078" y="17058"/>
                </a:cubicBezTo>
                <a:cubicBezTo>
                  <a:pt x="24022" y="17071"/>
                  <a:pt x="23953" y="17096"/>
                  <a:pt x="23915" y="17141"/>
                </a:cubicBezTo>
                <a:cubicBezTo>
                  <a:pt x="23890" y="17171"/>
                  <a:pt x="23896" y="17205"/>
                  <a:pt x="23923" y="17230"/>
                </a:cubicBezTo>
                <a:cubicBezTo>
                  <a:pt x="23955" y="17260"/>
                  <a:pt x="24000" y="17274"/>
                  <a:pt x="24030" y="17308"/>
                </a:cubicBezTo>
                <a:cubicBezTo>
                  <a:pt x="24057" y="17339"/>
                  <a:pt x="24049" y="17369"/>
                  <a:pt x="24022" y="17396"/>
                </a:cubicBezTo>
                <a:cubicBezTo>
                  <a:pt x="23988" y="17430"/>
                  <a:pt x="23944" y="17449"/>
                  <a:pt x="23898" y="17461"/>
                </a:cubicBezTo>
                <a:cubicBezTo>
                  <a:pt x="23871" y="17468"/>
                  <a:pt x="23847" y="17468"/>
                  <a:pt x="23820" y="174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419960" y="5083200"/>
            <a:ext cx="1312920" cy="192240"/>
          </a:xfrm>
          <a:custGeom>
            <a:avLst/>
            <a:gdLst/>
            <a:ahLst/>
            <a:rect l="l" t="t" r="r" b="b"/>
            <a:pathLst>
              <a:path w="3650" h="530">
                <a:moveTo>
                  <a:pt x="20737" y="14228"/>
                </a:moveTo>
                <a:cubicBezTo>
                  <a:pt x="20736" y="14274"/>
                  <a:pt x="20717" y="14309"/>
                  <a:pt x="20704" y="14354"/>
                </a:cubicBezTo>
                <a:cubicBezTo>
                  <a:pt x="20689" y="14404"/>
                  <a:pt x="20677" y="14454"/>
                  <a:pt x="20662" y="14504"/>
                </a:cubicBezTo>
                <a:cubicBezTo>
                  <a:pt x="20660" y="14510"/>
                  <a:pt x="20659" y="14516"/>
                  <a:pt x="20657" y="14522"/>
                </a:cubicBezTo>
              </a:path>
              <a:path w="3650" h="530">
                <a:moveTo>
                  <a:pt x="20699" y="14157"/>
                </a:moveTo>
                <a:cubicBezTo>
                  <a:pt x="20721" y="14131"/>
                  <a:pt x="20738" y="14126"/>
                  <a:pt x="20773" y="14124"/>
                </a:cubicBezTo>
                <a:cubicBezTo>
                  <a:pt x="20823" y="14121"/>
                  <a:pt x="20874" y="14123"/>
                  <a:pt x="20924" y="14126"/>
                </a:cubicBezTo>
                <a:cubicBezTo>
                  <a:pt x="20944" y="14127"/>
                  <a:pt x="21022" y="14129"/>
                  <a:pt x="21015" y="14169"/>
                </a:cubicBezTo>
                <a:cubicBezTo>
                  <a:pt x="21007" y="14213"/>
                  <a:pt x="20930" y="14251"/>
                  <a:pt x="20898" y="14272"/>
                </a:cubicBezTo>
                <a:cubicBezTo>
                  <a:pt x="20850" y="14304"/>
                  <a:pt x="20802" y="14328"/>
                  <a:pt x="20749" y="14350"/>
                </a:cubicBezTo>
                <a:cubicBezTo>
                  <a:pt x="20744" y="14352"/>
                  <a:pt x="20740" y="14354"/>
                  <a:pt x="20735" y="14356"/>
                </a:cubicBezTo>
                <a:cubicBezTo>
                  <a:pt x="20768" y="14349"/>
                  <a:pt x="20803" y="14345"/>
                  <a:pt x="20836" y="14351"/>
                </a:cubicBezTo>
                <a:cubicBezTo>
                  <a:pt x="20871" y="14358"/>
                  <a:pt x="20910" y="14376"/>
                  <a:pt x="20908" y="14418"/>
                </a:cubicBezTo>
                <a:cubicBezTo>
                  <a:pt x="20905" y="14474"/>
                  <a:pt x="20848" y="14521"/>
                  <a:pt x="20810" y="14555"/>
                </a:cubicBezTo>
                <a:cubicBezTo>
                  <a:pt x="20765" y="14595"/>
                  <a:pt x="20716" y="14633"/>
                  <a:pt x="20657" y="14647"/>
                </a:cubicBezTo>
                <a:cubicBezTo>
                  <a:pt x="20632" y="14651"/>
                  <a:pt x="20625" y="14652"/>
                  <a:pt x="20609" y="14651"/>
                </a:cubicBezTo>
              </a:path>
              <a:path w="3650" h="530">
                <a:moveTo>
                  <a:pt x="21134" y="14225"/>
                </a:moveTo>
                <a:cubicBezTo>
                  <a:pt x="21172" y="14216"/>
                  <a:pt x="21111" y="14272"/>
                  <a:pt x="21096" y="14294"/>
                </a:cubicBezTo>
                <a:cubicBezTo>
                  <a:pt x="21062" y="14346"/>
                  <a:pt x="21028" y="14403"/>
                  <a:pt x="21015" y="14464"/>
                </a:cubicBezTo>
                <a:cubicBezTo>
                  <a:pt x="21007" y="14501"/>
                  <a:pt x="21011" y="14544"/>
                  <a:pt x="21059" y="14532"/>
                </a:cubicBezTo>
                <a:cubicBezTo>
                  <a:pt x="21117" y="14517"/>
                  <a:pt x="21168" y="14462"/>
                  <a:pt x="21209" y="14421"/>
                </a:cubicBezTo>
                <a:cubicBezTo>
                  <a:pt x="21242" y="14388"/>
                  <a:pt x="21293" y="14340"/>
                  <a:pt x="21306" y="14293"/>
                </a:cubicBezTo>
                <a:cubicBezTo>
                  <a:pt x="21306" y="14273"/>
                  <a:pt x="21306" y="14267"/>
                  <a:pt x="21291" y="14260"/>
                </a:cubicBezTo>
              </a:path>
              <a:path w="3650" h="530">
                <a:moveTo>
                  <a:pt x="21361" y="14240"/>
                </a:moveTo>
                <a:cubicBezTo>
                  <a:pt x="21369" y="14241"/>
                  <a:pt x="21376" y="14242"/>
                  <a:pt x="21384" y="14243"/>
                </a:cubicBezTo>
                <a:cubicBezTo>
                  <a:pt x="21380" y="14283"/>
                  <a:pt x="21363" y="14309"/>
                  <a:pt x="21344" y="14346"/>
                </a:cubicBezTo>
                <a:cubicBezTo>
                  <a:pt x="21322" y="14389"/>
                  <a:pt x="21303" y="14434"/>
                  <a:pt x="21286" y="14479"/>
                </a:cubicBezTo>
                <a:cubicBezTo>
                  <a:pt x="21280" y="14497"/>
                  <a:pt x="21277" y="14503"/>
                  <a:pt x="21295" y="14495"/>
                </a:cubicBezTo>
              </a:path>
              <a:path w="3650" h="530">
                <a:moveTo>
                  <a:pt x="21481" y="14263"/>
                </a:moveTo>
                <a:cubicBezTo>
                  <a:pt x="21501" y="14303"/>
                  <a:pt x="21493" y="14314"/>
                  <a:pt x="21472" y="14356"/>
                </a:cubicBezTo>
                <a:cubicBezTo>
                  <a:pt x="21446" y="14408"/>
                  <a:pt x="21407" y="14455"/>
                  <a:pt x="21384" y="14509"/>
                </a:cubicBezTo>
                <a:cubicBezTo>
                  <a:pt x="21378" y="14528"/>
                  <a:pt x="21376" y="14534"/>
                  <a:pt x="21389" y="14544"/>
                </a:cubicBezTo>
                <a:cubicBezTo>
                  <a:pt x="21445" y="14531"/>
                  <a:pt x="21482" y="14507"/>
                  <a:pt x="21528" y="14473"/>
                </a:cubicBezTo>
                <a:cubicBezTo>
                  <a:pt x="21557" y="14452"/>
                  <a:pt x="21566" y="14445"/>
                  <a:pt x="21583" y="14429"/>
                </a:cubicBezTo>
              </a:path>
              <a:path w="3650" h="530">
                <a:moveTo>
                  <a:pt x="21723" y="14310"/>
                </a:moveTo>
                <a:cubicBezTo>
                  <a:pt x="21759" y="14316"/>
                  <a:pt x="21758" y="14329"/>
                  <a:pt x="21741" y="14364"/>
                </a:cubicBezTo>
                <a:cubicBezTo>
                  <a:pt x="21724" y="14399"/>
                  <a:pt x="21705" y="14432"/>
                  <a:pt x="21691" y="14468"/>
                </a:cubicBezTo>
                <a:cubicBezTo>
                  <a:pt x="21670" y="14521"/>
                  <a:pt x="21690" y="14450"/>
                  <a:pt x="21691" y="14446"/>
                </a:cubicBezTo>
              </a:path>
              <a:path w="3650" h="530">
                <a:moveTo>
                  <a:pt x="21702" y="14219"/>
                </a:moveTo>
                <a:cubicBezTo>
                  <a:pt x="21732" y="14195"/>
                  <a:pt x="21763" y="14202"/>
                  <a:pt x="21804" y="14213"/>
                </a:cubicBezTo>
                <a:cubicBezTo>
                  <a:pt x="21853" y="14226"/>
                  <a:pt x="21899" y="14248"/>
                  <a:pt x="21930" y="14291"/>
                </a:cubicBezTo>
                <a:cubicBezTo>
                  <a:pt x="21966" y="14342"/>
                  <a:pt x="21959" y="14399"/>
                  <a:pt x="21930" y="14451"/>
                </a:cubicBezTo>
                <a:cubicBezTo>
                  <a:pt x="21889" y="14525"/>
                  <a:pt x="21812" y="14596"/>
                  <a:pt x="21730" y="14620"/>
                </a:cubicBezTo>
                <a:cubicBezTo>
                  <a:pt x="21677" y="14635"/>
                  <a:pt x="21654" y="14622"/>
                  <a:pt x="21631" y="14579"/>
                </a:cubicBezTo>
              </a:path>
              <a:path w="3650" h="530">
                <a:moveTo>
                  <a:pt x="22476" y="14320"/>
                </a:moveTo>
                <a:cubicBezTo>
                  <a:pt x="22481" y="14317"/>
                  <a:pt x="22486" y="14313"/>
                  <a:pt x="22491" y="14310"/>
                </a:cubicBezTo>
                <a:cubicBezTo>
                  <a:pt x="22449" y="14310"/>
                  <a:pt x="22416" y="14325"/>
                  <a:pt x="22380" y="14348"/>
                </a:cubicBezTo>
                <a:cubicBezTo>
                  <a:pt x="22311" y="14391"/>
                  <a:pt x="22240" y="14451"/>
                  <a:pt x="22200" y="14523"/>
                </a:cubicBezTo>
                <a:cubicBezTo>
                  <a:pt x="22181" y="14557"/>
                  <a:pt x="22166" y="14606"/>
                  <a:pt x="22211" y="14626"/>
                </a:cubicBezTo>
                <a:cubicBezTo>
                  <a:pt x="22253" y="14645"/>
                  <a:pt x="22315" y="14623"/>
                  <a:pt x="22354" y="14609"/>
                </a:cubicBezTo>
                <a:cubicBezTo>
                  <a:pt x="22367" y="14604"/>
                  <a:pt x="22381" y="14598"/>
                  <a:pt x="22394" y="14593"/>
                </a:cubicBezTo>
              </a:path>
              <a:path w="3650" h="530">
                <a:moveTo>
                  <a:pt x="22683" y="14382"/>
                </a:moveTo>
                <a:cubicBezTo>
                  <a:pt x="22647" y="14408"/>
                  <a:pt x="22610" y="14430"/>
                  <a:pt x="22581" y="14465"/>
                </a:cubicBezTo>
                <a:cubicBezTo>
                  <a:pt x="22557" y="14494"/>
                  <a:pt x="22542" y="14525"/>
                  <a:pt x="22537" y="14561"/>
                </a:cubicBezTo>
                <a:cubicBezTo>
                  <a:pt x="22580" y="14582"/>
                  <a:pt x="22599" y="14575"/>
                  <a:pt x="22642" y="14548"/>
                </a:cubicBezTo>
                <a:cubicBezTo>
                  <a:pt x="22687" y="14520"/>
                  <a:pt x="22726" y="14484"/>
                  <a:pt x="22751" y="14437"/>
                </a:cubicBezTo>
                <a:cubicBezTo>
                  <a:pt x="22767" y="14407"/>
                  <a:pt x="22778" y="14363"/>
                  <a:pt x="22750" y="14336"/>
                </a:cubicBezTo>
                <a:cubicBezTo>
                  <a:pt x="22729" y="14316"/>
                  <a:pt x="22695" y="14320"/>
                  <a:pt x="22670" y="14329"/>
                </a:cubicBezTo>
                <a:cubicBezTo>
                  <a:pt x="22653" y="14338"/>
                  <a:pt x="22647" y="14341"/>
                  <a:pt x="22642" y="14355"/>
                </a:cubicBezTo>
              </a:path>
              <a:path w="3650" h="530">
                <a:moveTo>
                  <a:pt x="22948" y="14322"/>
                </a:moveTo>
                <a:cubicBezTo>
                  <a:pt x="22954" y="14318"/>
                  <a:pt x="22961" y="14314"/>
                  <a:pt x="22967" y="14310"/>
                </a:cubicBezTo>
                <a:cubicBezTo>
                  <a:pt x="22976" y="14342"/>
                  <a:pt x="22957" y="14367"/>
                  <a:pt x="22940" y="14397"/>
                </a:cubicBezTo>
                <a:cubicBezTo>
                  <a:pt x="22904" y="14460"/>
                  <a:pt x="22861" y="14519"/>
                  <a:pt x="22823" y="14580"/>
                </a:cubicBezTo>
                <a:cubicBezTo>
                  <a:pt x="22848" y="14548"/>
                  <a:pt x="22870" y="14517"/>
                  <a:pt x="22892" y="14482"/>
                </a:cubicBezTo>
              </a:path>
              <a:path w="3650" h="530">
                <a:moveTo>
                  <a:pt x="22957" y="14377"/>
                </a:moveTo>
                <a:cubicBezTo>
                  <a:pt x="22972" y="14354"/>
                  <a:pt x="22976" y="14348"/>
                  <a:pt x="22987" y="14335"/>
                </a:cubicBezTo>
                <a:cubicBezTo>
                  <a:pt x="23003" y="14373"/>
                  <a:pt x="22989" y="14400"/>
                  <a:pt x="22984" y="14443"/>
                </a:cubicBezTo>
                <a:cubicBezTo>
                  <a:pt x="22979" y="14481"/>
                  <a:pt x="22967" y="14538"/>
                  <a:pt x="23022" y="14543"/>
                </a:cubicBezTo>
                <a:cubicBezTo>
                  <a:pt x="23061" y="14547"/>
                  <a:pt x="23124" y="14480"/>
                  <a:pt x="23144" y="14454"/>
                </a:cubicBezTo>
                <a:cubicBezTo>
                  <a:pt x="23188" y="14398"/>
                  <a:pt x="23209" y="14329"/>
                  <a:pt x="23227" y="14261"/>
                </a:cubicBezTo>
              </a:path>
              <a:path w="3650" h="530">
                <a:moveTo>
                  <a:pt x="23476" y="14265"/>
                </a:moveTo>
                <a:cubicBezTo>
                  <a:pt x="23458" y="14307"/>
                  <a:pt x="23443" y="14349"/>
                  <a:pt x="23427" y="14391"/>
                </a:cubicBezTo>
                <a:cubicBezTo>
                  <a:pt x="23410" y="14434"/>
                  <a:pt x="23395" y="14478"/>
                  <a:pt x="23378" y="14521"/>
                </a:cubicBezTo>
                <a:cubicBezTo>
                  <a:pt x="23376" y="14527"/>
                  <a:pt x="23373" y="14533"/>
                  <a:pt x="23371" y="14539"/>
                </a:cubicBezTo>
              </a:path>
              <a:path w="3650" h="530">
                <a:moveTo>
                  <a:pt x="23364" y="14281"/>
                </a:moveTo>
                <a:cubicBezTo>
                  <a:pt x="23389" y="14266"/>
                  <a:pt x="23416" y="14255"/>
                  <a:pt x="23446" y="14248"/>
                </a:cubicBezTo>
                <a:cubicBezTo>
                  <a:pt x="23491" y="14238"/>
                  <a:pt x="23539" y="14230"/>
                  <a:pt x="23585" y="14224"/>
                </a:cubicBezTo>
                <a:cubicBezTo>
                  <a:pt x="23612" y="14221"/>
                  <a:pt x="23620" y="14220"/>
                  <a:pt x="23637" y="14219"/>
                </a:cubicBezTo>
              </a:path>
              <a:path w="3650" h="530">
                <a:moveTo>
                  <a:pt x="23402" y="14440"/>
                </a:moveTo>
                <a:cubicBezTo>
                  <a:pt x="23440" y="14454"/>
                  <a:pt x="23451" y="14438"/>
                  <a:pt x="23488" y="14420"/>
                </a:cubicBezTo>
                <a:cubicBezTo>
                  <a:pt x="23526" y="14401"/>
                  <a:pt x="23562" y="14378"/>
                  <a:pt x="23600" y="14361"/>
                </a:cubicBezTo>
                <a:cubicBezTo>
                  <a:pt x="23631" y="14348"/>
                  <a:pt x="23642" y="14344"/>
                  <a:pt x="23663" y="14337"/>
                </a:cubicBezTo>
              </a:path>
              <a:path w="3650" h="530">
                <a:moveTo>
                  <a:pt x="23748" y="14308"/>
                </a:moveTo>
                <a:cubicBezTo>
                  <a:pt x="23764" y="14303"/>
                  <a:pt x="23771" y="14301"/>
                  <a:pt x="23783" y="14307"/>
                </a:cubicBezTo>
                <a:cubicBezTo>
                  <a:pt x="23779" y="14347"/>
                  <a:pt x="23764" y="14374"/>
                  <a:pt x="23749" y="14412"/>
                </a:cubicBezTo>
                <a:cubicBezTo>
                  <a:pt x="23739" y="14437"/>
                  <a:pt x="23734" y="14461"/>
                  <a:pt x="23729" y="14488"/>
                </a:cubicBezTo>
                <a:cubicBezTo>
                  <a:pt x="23756" y="14492"/>
                  <a:pt x="23765" y="14493"/>
                  <a:pt x="23778" y="14476"/>
                </a:cubicBezTo>
              </a:path>
              <a:path w="3650" h="530">
                <a:moveTo>
                  <a:pt x="24072" y="14210"/>
                </a:moveTo>
                <a:cubicBezTo>
                  <a:pt x="24037" y="14247"/>
                  <a:pt x="23999" y="14281"/>
                  <a:pt x="23968" y="14322"/>
                </a:cubicBezTo>
                <a:cubicBezTo>
                  <a:pt x="23934" y="14368"/>
                  <a:pt x="23901" y="14423"/>
                  <a:pt x="23895" y="14481"/>
                </a:cubicBezTo>
                <a:cubicBezTo>
                  <a:pt x="23891" y="14518"/>
                  <a:pt x="23909" y="14544"/>
                  <a:pt x="23949" y="14537"/>
                </a:cubicBezTo>
                <a:cubicBezTo>
                  <a:pt x="23990" y="14529"/>
                  <a:pt x="24023" y="14499"/>
                  <a:pt x="24048" y="14468"/>
                </a:cubicBezTo>
                <a:cubicBezTo>
                  <a:pt x="24066" y="14445"/>
                  <a:pt x="24069" y="14433"/>
                  <a:pt x="24073" y="14406"/>
                </a:cubicBezTo>
                <a:cubicBezTo>
                  <a:pt x="24107" y="14417"/>
                  <a:pt x="24131" y="14418"/>
                  <a:pt x="24167" y="14415"/>
                </a:cubicBezTo>
                <a:cubicBezTo>
                  <a:pt x="24198" y="14412"/>
                  <a:pt x="24228" y="14407"/>
                  <a:pt x="24258" y="14401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op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benefits of good modular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ut for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oin points, pointcuts, advice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etting started with auxiliary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 suppor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.org Technology PMC proj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versions 0.1-1.1 developed at Xerox PARC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Erik Hilsdale, Jim Hugunin, 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s Isberg and Mik Kerst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Andy Clement, Mik Kerste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Julie Waterhouse Par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1" lang="en-US" sz="3000" spc="-1" strike="noStrike">
                <a:solidFill>
                  <a:srgbClr val="666699"/>
                </a:solidFill>
                <a:latin typeface="Arial"/>
              </a:rPr>
              <a:t>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aosd.ne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743040" y="1608120"/>
            <a:ext cx="788328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52120" y="3657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language overview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0174320" y="36320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28262" y="10088"/>
                </a:moveTo>
                <a:lnTo>
                  <a:pt x="28262" y="10088"/>
                </a:ln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6031080" y="2759040"/>
            <a:ext cx="2743200" cy="1905120"/>
            <a:chOff x="6031080" y="2759040"/>
            <a:chExt cx="2743200" cy="1905120"/>
          </a:xfrm>
        </p:grpSpPr>
        <p:sp>
          <p:nvSpPr>
            <p:cNvPr id="110" name=""/>
            <p:cNvSpPr/>
            <p:nvPr/>
          </p:nvSpPr>
          <p:spPr>
            <a:xfrm>
              <a:off x="6031080" y="2759040"/>
              <a:ext cx="2743200" cy="190512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793200" y="32925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336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88480" y="35211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479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517160" y="310212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098120" y="413064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055280" y="4078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055280" y="44690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964640" y="4083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969680" y="447372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998720" y="1219320"/>
            <a:ext cx="6318000" cy="5215680"/>
            <a:chOff x="1998720" y="1219320"/>
            <a:chExt cx="6318000" cy="5215680"/>
          </a:xfrm>
        </p:grpSpPr>
        <p:grpSp>
          <p:nvGrpSpPr>
            <p:cNvPr id="122" name=""/>
            <p:cNvGrpSpPr/>
            <p:nvPr/>
          </p:nvGrpSpPr>
          <p:grpSpPr>
            <a:xfrm>
              <a:off x="2216160" y="3215880"/>
              <a:ext cx="6100560" cy="3219120"/>
              <a:chOff x="2216160" y="3215880"/>
              <a:chExt cx="6100560" cy="3219120"/>
            </a:xfrm>
          </p:grpSpPr>
          <p:sp>
            <p:nvSpPr>
              <p:cNvPr id="123" name=""/>
              <p:cNvSpPr/>
              <p:nvPr/>
            </p:nvSpPr>
            <p:spPr>
              <a:xfrm flipH="1" flipV="1">
                <a:off x="4887720" y="3215880"/>
                <a:ext cx="1447920" cy="228564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216160" y="5806440"/>
                <a:ext cx="4119480" cy="62856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4851360" y="5654160"/>
                <a:ext cx="1484280" cy="19008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6259320" y="534924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" name=""/>
            <p:cNvGrpSpPr/>
            <p:nvPr/>
          </p:nvGrpSpPr>
          <p:grpSpPr>
            <a:xfrm>
              <a:off x="1998720" y="1219320"/>
              <a:ext cx="5796000" cy="1753560"/>
              <a:chOff x="1998720" y="1219320"/>
              <a:chExt cx="5796000" cy="1753560"/>
            </a:xfrm>
          </p:grpSpPr>
          <p:sp>
            <p:nvSpPr>
              <p:cNvPr id="128" name=""/>
              <p:cNvSpPr/>
              <p:nvPr/>
            </p:nvSpPr>
            <p:spPr>
              <a:xfrm>
                <a:off x="1998720" y="1463400"/>
                <a:ext cx="3816360" cy="150948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737320" y="121932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0" name=""/>
          <p:cNvGrpSpPr/>
          <p:nvPr/>
        </p:nvGrpSpPr>
        <p:grpSpPr>
          <a:xfrm>
            <a:off x="457200" y="1387440"/>
            <a:ext cx="4583160" cy="4952880"/>
            <a:chOff x="457200" y="1387440"/>
            <a:chExt cx="4583160" cy="4952880"/>
          </a:xfrm>
        </p:grpSpPr>
        <p:sp>
          <p:nvSpPr>
            <p:cNvPr id="131" name=""/>
            <p:cNvSpPr/>
            <p:nvPr/>
          </p:nvSpPr>
          <p:spPr>
            <a:xfrm>
              <a:off x="468360" y="138744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297160" y="245268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28960" y="217008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2286000" y="480852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340000" y="441144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/>
            <p:nvPr/>
          </p:nvCxnSpPr>
          <p:spPr>
            <a:xfrm flipV="1">
              <a:off x="1371240" y="396360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7" name=""/>
            <p:cNvCxnSpPr>
              <a:stCxn id="138" idx="0"/>
            </p:cNvCxnSpPr>
            <p:nvPr/>
          </p:nvCxnSpPr>
          <p:spPr>
            <a:xfrm flipV="1">
              <a:off x="4114440" y="396360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9" name=""/>
            <p:cNvCxnSpPr/>
            <p:nvPr/>
          </p:nvCxnSpPr>
          <p:spPr>
            <a:xfrm>
              <a:off x="1371600" y="396360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40" name=""/>
            <p:cNvCxnSpPr/>
            <p:nvPr/>
          </p:nvCxnSpPr>
          <p:spPr>
            <a:xfrm flipV="1">
              <a:off x="4114440" y="350928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141" name=""/>
            <p:cNvGrpSpPr/>
            <p:nvPr/>
          </p:nvGrpSpPr>
          <p:grpSpPr>
            <a:xfrm>
              <a:off x="457200" y="4279680"/>
              <a:ext cx="1828800" cy="2060640"/>
              <a:chOff x="457200" y="4279680"/>
              <a:chExt cx="1828800" cy="2060640"/>
            </a:xfrm>
          </p:grpSpPr>
          <p:sp>
            <p:nvSpPr>
              <p:cNvPr id="142" name=""/>
              <p:cNvSpPr/>
              <p:nvPr/>
            </p:nvSpPr>
            <p:spPr>
              <a:xfrm>
                <a:off x="4572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572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572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" name=""/>
            <p:cNvGrpSpPr/>
            <p:nvPr/>
          </p:nvGrpSpPr>
          <p:grpSpPr>
            <a:xfrm>
              <a:off x="3200400" y="4279680"/>
              <a:ext cx="1828800" cy="2060640"/>
              <a:chOff x="3200400" y="4279680"/>
              <a:chExt cx="1828800" cy="2060640"/>
            </a:xfrm>
          </p:grpSpPr>
          <p:sp>
            <p:nvSpPr>
              <p:cNvPr id="138" name=""/>
              <p:cNvSpPr/>
              <p:nvPr/>
            </p:nvSpPr>
            <p:spPr>
              <a:xfrm>
                <a:off x="32004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2004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32004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" name=""/>
            <p:cNvGrpSpPr/>
            <p:nvPr/>
          </p:nvGrpSpPr>
          <p:grpSpPr>
            <a:xfrm>
              <a:off x="468360" y="2234880"/>
              <a:ext cx="1828800" cy="1363680"/>
              <a:chOff x="468360" y="2234880"/>
              <a:chExt cx="1828800" cy="1363680"/>
            </a:xfrm>
          </p:grpSpPr>
          <p:sp>
            <p:nvSpPr>
              <p:cNvPr id="149" name=""/>
              <p:cNvSpPr/>
              <p:nvPr/>
            </p:nvSpPr>
            <p:spPr>
              <a:xfrm>
                <a:off x="4683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68360" y="268128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68360" y="26780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3211560" y="2234880"/>
              <a:ext cx="1828800" cy="1285920"/>
              <a:chOff x="3211560" y="2234880"/>
              <a:chExt cx="1828800" cy="1285920"/>
            </a:xfrm>
          </p:grpSpPr>
          <p:sp>
            <p:nvSpPr>
              <p:cNvPr id="153" name=""/>
              <p:cNvSpPr/>
              <p:nvPr/>
            </p:nvSpPr>
            <p:spPr>
              <a:xfrm>
                <a:off x="32115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049640" y="336852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3211560" y="267948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3211560" y="267480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158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164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895480" y="121932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the dynamic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181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186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191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50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3-11-12T06:16:41Z</dcterms:modified>
  <cp:revision>309</cp:revision>
  <dc:subject/>
  <dc:title>Aspect-Oriented Programming with AspectJ</dc:title>
</cp:coreProperties>
</file>