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81A06A6-5C82-48FA-88B0-2E094607EA1F}"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5E496AE-FEDC-40B0-9576-87C9E6B6066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C5724E1-4952-4FBF-A56D-611125D132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B941988-4789-434B-BC56-0D181EA77D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7B312D3-6776-4BC4-8EC3-567955128D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43C1079-7D28-466B-B568-A43F4A1E8C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A911A53-ECF3-4FFB-A8C1-C6420A2CF54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CB844CC-4194-4279-9A96-88014C15F6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343C59A-B7B6-4D3F-B099-7880F350E75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E30C528-E8A2-4A11-BAFD-3EC23FAF786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A131209-3D0E-4CDC-85AD-CB5E37C5585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71B6910-ED85-4E25-9D04-A1E3ADB8F30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C076D97-A49B-41BE-B8FF-F5C50D109A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39F8D8F-BD10-4B6B-B71E-0966590980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24D3638-4473-4937-B60B-C04B6AB688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5BFDFDB-0FDD-4B91-9C94-4A90F532715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9D6AD6D-DB9A-499B-A087-0344FF29C85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0DF1B2A-4735-4760-A712-CFB665C4DE8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962CDA2-4D99-4024-837A-BE675A44DD9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1B2CEC4-7DEF-438D-A3D8-EA8928BC66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11022E-5393-4C9A-93EC-5F07210EE3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3055BB-C2CC-47D6-9DA2-496EF02E2C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A4D0CE-7B23-4C65-B93B-4FA9E147EB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0B95C3-6053-4D64-91BD-883A38E5AE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6D2B40-28FC-4CE7-B35D-6D08ECC2F6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224BB4-FB07-4696-B3FB-6342733D5C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63245-FFCA-4C1D-B2B8-E66A1FC5192A}"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4DFAE-E545-452D-A6A3-F5174C7A017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5DB38A3-54A0-46AF-B823-61102497CFB2}"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8F8C72F-8F2B-4828-B71E-8A9DA3973925}"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6A75202-0985-4FE1-B043-C3B4460A902A}"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FBE9862-B0F0-4554-AC1B-CBF823C002F3}"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6503188-3EE7-4D9C-835B-CE73540C3F25}"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D065E09-C2BD-4AAD-AB1F-E33807120743}"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9C1681E-17FD-4E8B-9C27-785E2F158AB9}"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74C1811-D050-4F8F-B5EB-2A9FC511D322}"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C7EB27E-85EE-4EB8-85F0-86629D0CE208}"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2AE176B-0A03-4257-B82F-AFF43A1AD7FF}"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98E2487-7EBE-4395-905E-6D792113E62F}"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03F64FC-C8C8-421B-ACF9-C76412450332}"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CFEB887-C171-4BAA-BFFC-43520C931E33}"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AEE3983-C8EC-4266-A9E5-355ACFBC78F4}"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27CBEE4-1E67-4C07-995E-9CD58AA7F925}"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88855AA-10B8-44BF-A2FD-86A470690DB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2077385-BA12-4784-9A4A-FAD0E4FA0968}"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452648C-34E6-44C0-AF8F-EA9BC585C7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F19A6846-CBB2-4EBF-BABB-91014BF2F102}"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65013AB-8EF2-401D-86DE-ABF59C501DF6}"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435AB76-BB95-4A1C-813F-83F57DEE04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7C60A91-6670-43D9-8E3F-AE30D18AA5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17EB606-654D-4214-A03B-63DE42D95819}"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88997ED-FAE9-4E8F-97FC-9B320BB2B8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739C34C-86D7-4D45-AE28-D07572D3E3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2DA6071-A955-4F54-96F3-2C3F677446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120547E-EB04-462D-B138-AD0C18654EE2}"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B8507D-75F8-401C-9809-9219C6A0F7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3FBC8CA-5902-4D33-940B-31A673B9C6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6B6A9F0-4D25-4C16-A026-90873EA594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D2761E9-A832-409E-AC06-FF179FBDC36F}"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D07529E-2456-483A-9B74-3095BB27C02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2B7A7D9-9222-48EA-A594-92FB844EDF0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C9D38B0-1485-4302-B0F8-4E9A368C6FEA}"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40DEDEA-E913-4DA3-861C-9BE5D68D2DE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EE4E42D-D9DB-4FCA-8B07-B93437518D6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4C7FB60-2D41-438C-B3CF-C30970C7AA3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03404B6-4A78-48FE-AB53-08E2B93BED6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F988E07-A405-4D30-A978-0AA62015222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933C772-9295-4D72-B367-ECC72992347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0BE86B5-3D7E-486C-86F8-B0D65AFBE2B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5BF6051-03A9-4E78-A68C-6E9FDBF4652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7D04D83-F5DB-4174-8A45-3638C65A5D0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4DA0341-70BB-4B5A-9072-ACFF9C8F16C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DFA9D3D-A77C-40CF-8BCE-93070C10F29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1E698E4-BEE7-469C-96A1-9D31EB7531B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E0B0BB0-25E1-416A-A350-B7E9A67391A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C6E3527-1B23-45B2-8197-F333FEA3116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1E1A268-7705-46C9-86D8-C5EC24EB57E6}"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FD203A0-9ED8-4EB2-84BB-73E2749A012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1A34468-B626-4B92-A6DD-8600CD9A58D9}"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D83C7C9-EF9D-4AE5-ABD7-821DE4757725}"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8167109-6CB6-4573-BC3D-2CB7C1CB598F}"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21EC8FC-D58D-4347-972E-6263A3737184}"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589DCCA-72A4-4AE8-A877-A7F0A0006D70}"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7E7A687-1834-4DD4-9227-6322155193E2}"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6785BDC-EF46-4424-904B-63E5C7FE5A0B}"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352D55C-896B-42F6-9A17-EB477BA3CEF1}"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88C9FBB-241D-4F09-9FBB-F143F8B3E6D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77D79F9-CFE4-4DFF-82B0-F360C033F926}"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3B43FA1-3A9A-4E41-9635-C15CE6C22F7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4CB2271-F498-45E0-BF20-BA2261686EF0}"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4D79A44-6258-4325-8A58-B00D9646C1FC}"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DDB6902-0E8D-4F0D-B25A-72CB8E577BDB}"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F0F8F89-445E-496A-A166-462D7F5C8D70}"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082BC5B-5646-4692-AB50-359357103838}"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D1CA9A4-D5E9-4098-BE40-CB284477D29D}"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0BFA37F-3D5A-428B-ABA2-550C35772E45}"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C96658C-36E8-42FD-8399-7F3C7027B2E1}"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34199CD-5D64-420B-975C-6450449BEDEA}"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E695AE1-E3BD-4DC9-99B7-344DC563C44D}"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7131F21-6F45-4EBA-BB00-96370C320B39}"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A860158-70E9-464F-A185-53505D371C19}"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C7926D4-0FB7-45A4-A0D5-FB86CDAA6C7C}"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12433AE-3015-4F43-958D-E3AD1A875B2B}"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C65CC8C-479B-4EB6-87FA-7494DA966B37}"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B81A412-C468-435C-BDE7-8D8A63C193CB}"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29120AC-D68A-4CC1-A09D-547B82A697F5}"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487B818-406D-41C8-9876-3CEBA6693ABD}"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D7A8EBC-A182-423B-8273-5223E03CA7EC}"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6D33CA7-7168-4873-952A-3E67956AE99F}"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61B074C-1DD7-411D-B747-D9FF0E3BE422}"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BAEBD79-028D-4BA3-82DE-299567B9FBC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994F383-1E79-486B-A0A5-0EA0CC03B55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C21D2E0-22AA-4F54-A1F4-A162C9D53267}"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3CB874B-793C-44F6-A0FB-C450D053C39D}"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0BBDF4C-E03C-431E-8E9E-8BE161129F27}"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BA49534-C5D9-4762-8DF6-B9D27C332CAF}"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FC64671-C0D1-4311-ABFD-911D7BEF709D}"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41B8B93-56E9-4F8B-97F9-EDA191716B57}"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7F79A9D-C106-4CAF-8F6F-4A236FF7D510}"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0DB73DC-183B-44B7-A357-BC3495CB2CEE}"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1FB2B1-4096-4C6E-BB82-7A07957DA67A}"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E7FDFD3-0C0A-4F4A-B7FE-0FFFF9798675}"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3B41777D-F9AF-4913-B162-84B7D94E29FE}"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74FD8AB-3B03-42D1-BFC5-70D9B5D2C0DA}"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6A95F80-30FA-44EA-A95D-4F906AC58103}"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5BD0965-BB61-48B9-9576-4399E43BC92A}"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9C3C2CA-3062-4AD5-8F31-4A91557057D7}"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C83BBB6-64A1-4A70-93B9-D7164C9D106E}"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0522C3C-7300-4753-8DCF-2512294CFF77}"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9BF4573-515B-4C06-BCF5-B0D349F5583E}"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22E97B0-FC2D-42A6-8CBA-5C2B3EB56B40}"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A1671E9-4B72-49A4-9A56-C81583E578A4}"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D6F3B4F-D980-4420-B2E0-0C3D31214C13}"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05CA467-D7A8-4996-90C9-697EBE0AE1F3}"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D4C74BFE-3B0D-466A-93D8-C7CD6345E7A5}"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4610627-7876-4DA2-8BF6-79BBB08475E2}"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0FE70D7-D3E6-4C1C-B0B2-60F49394A47B}"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C964CEB-1390-49CE-AB19-0DE3C9A00FC2}"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408B39C-E9A4-4F7F-A8D7-329B1DB9FA30}"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8F48860-3B77-40E4-B5BB-EDD10B8A20B1}"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